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BB41-A1E1-4C98-B144-A7D4FC09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2 + 3 = 2 + 3 =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+ 14 /2 = 0 + 7 =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 x 3 + 1 = 9 + 1 = 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11 – 6 – 3 = 5 – 3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353-EDB2-4B62-97A0-582827CB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5D9-5094-47AD-A925-5AD2CD2D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33E-0BBF-45BA-B238-19B69645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D4D-A6C0-4A16-9FB9-950EBE8B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885-97F2-4829-B2AF-8D75A39E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6599-2948-40F6-BE9C-9FE80482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DDA6-E94D-4697-9D9F-0F24426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495E-36B3-43FE-A68F-0D22083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37E-1AAA-487A-8BFA-D46E2446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8F0-947D-4394-9D37-6A3349C7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E07-75EF-4117-A76B-878D11B9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71E-9A90-4606-9BDB-D3C6317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5AF6-4514-48D7-A308-C4BF0F6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E780-5B87-41B0-9D6F-F659333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24B4-ED15-407D-9D72-7B4D367C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A981-3CF2-4193-9B66-35BBC113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5267-603F-4501-9A59-4329A6D1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4EB-1334-4167-916D-11B887C8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F48-18DA-48F5-BD5E-7428E37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A02-55DC-43F3-B153-E526901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11D-8990-41BC-B460-C509A74E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D8D-1EB2-4DC3-A04F-649C0962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721-3E29-4AAA-863B-C24EC53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83A-5957-4A37-90D9-881C010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661-AE9C-4F09-9D60-6A41D4E4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9280-E2AE-475D-B762-C9F06F889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rainpop.org./" TargetMode="External"/><Relationship Id="rId2" Type="http://schemas.openxmlformats.org/officeDocument/2006/relationships/hyperlink" Target="http://www.brainpop.org./" TargetMode="External"/><Relationship Id="rId3" Type="http://schemas.openxmlformats.org/officeDocument/2006/relationships/hyperlink" Target="http://www.brainpop.org.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different answers can you get for the following expression if you don’t follow the order of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12 + 15 ÷ 3 x 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880" y="600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08" y="16669"/>
                </a:moveTo>
                <a:lnTo>
                  <a:pt x="2108" y="166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77000" y="2608200"/>
            <a:ext cx="1519200" cy="517680"/>
          </a:xfrm>
          <a:custGeom>
            <a:avLst/>
            <a:gdLst/>
            <a:ahLst/>
            <a:rect l="l" t="t" r="r" b="b"/>
            <a:pathLst>
              <a:path w="4218" h="1440">
                <a:moveTo>
                  <a:pt x="19224" y="7441"/>
                </a:moveTo>
                <a:cubicBezTo>
                  <a:pt x="19224" y="7716"/>
                  <a:pt x="19205" y="7986"/>
                  <a:pt x="19199" y="8260"/>
                </a:cubicBezTo>
                <a:cubicBezTo>
                  <a:pt x="19199" y="8285"/>
                  <a:pt x="19199" y="8309"/>
                  <a:pt x="19199" y="8334"/>
                </a:cubicBezTo>
              </a:path>
              <a:path w="4218" h="1440">
                <a:moveTo>
                  <a:pt x="18827" y="7491"/>
                </a:moveTo>
                <a:cubicBezTo>
                  <a:pt x="19011" y="7381"/>
                  <a:pt x="19366" y="7128"/>
                  <a:pt x="19571" y="7367"/>
                </a:cubicBezTo>
                <a:cubicBezTo>
                  <a:pt x="19726" y="7548"/>
                  <a:pt x="19408" y="7785"/>
                  <a:pt x="19273" y="7838"/>
                </a:cubicBezTo>
                <a:cubicBezTo>
                  <a:pt x="19257" y="7838"/>
                  <a:pt x="19240" y="7838"/>
                  <a:pt x="19224" y="7838"/>
                </a:cubicBezTo>
              </a:path>
              <a:path w="4218" h="1440">
                <a:moveTo>
                  <a:pt x="19968" y="7392"/>
                </a:moveTo>
                <a:cubicBezTo>
                  <a:pt x="19908" y="7641"/>
                  <a:pt x="19824" y="7868"/>
                  <a:pt x="19745" y="8111"/>
                </a:cubicBezTo>
                <a:cubicBezTo>
                  <a:pt x="19737" y="8144"/>
                  <a:pt x="19728" y="8177"/>
                  <a:pt x="19720" y="8210"/>
                </a:cubicBezTo>
                <a:cubicBezTo>
                  <a:pt x="19899" y="8233"/>
                  <a:pt x="20041" y="8191"/>
                  <a:pt x="20216" y="8136"/>
                </a:cubicBezTo>
              </a:path>
              <a:path w="4218" h="1440">
                <a:moveTo>
                  <a:pt x="19720" y="7838"/>
                </a:moveTo>
                <a:cubicBezTo>
                  <a:pt x="19880" y="7806"/>
                  <a:pt x="20037" y="7733"/>
                  <a:pt x="20191" y="7665"/>
                </a:cubicBezTo>
              </a:path>
              <a:path w="4218" h="1440">
                <a:moveTo>
                  <a:pt x="19918" y="7466"/>
                </a:moveTo>
                <a:cubicBezTo>
                  <a:pt x="20039" y="7413"/>
                  <a:pt x="20180" y="7380"/>
                  <a:pt x="20290" y="7317"/>
                </a:cubicBezTo>
              </a:path>
              <a:path w="4218" h="1440">
                <a:moveTo>
                  <a:pt x="20414" y="7491"/>
                </a:moveTo>
                <a:cubicBezTo>
                  <a:pt x="20525" y="7703"/>
                  <a:pt x="20502" y="7820"/>
                  <a:pt x="20489" y="8062"/>
                </a:cubicBezTo>
                <a:cubicBezTo>
                  <a:pt x="20510" y="7824"/>
                  <a:pt x="20573" y="7607"/>
                  <a:pt x="20687" y="7392"/>
                </a:cubicBezTo>
                <a:cubicBezTo>
                  <a:pt x="20784" y="7209"/>
                  <a:pt x="20860" y="7821"/>
                  <a:pt x="20861" y="7838"/>
                </a:cubicBezTo>
                <a:cubicBezTo>
                  <a:pt x="20861" y="7871"/>
                  <a:pt x="20861" y="7905"/>
                  <a:pt x="20861" y="7938"/>
                </a:cubicBezTo>
                <a:cubicBezTo>
                  <a:pt x="20840" y="7760"/>
                  <a:pt x="20837" y="7530"/>
                  <a:pt x="20985" y="7392"/>
                </a:cubicBezTo>
                <a:cubicBezTo>
                  <a:pt x="21073" y="7348"/>
                  <a:pt x="21094" y="7331"/>
                  <a:pt x="21158" y="7342"/>
                </a:cubicBezTo>
                <a:cubicBezTo>
                  <a:pt x="21230" y="7535"/>
                  <a:pt x="21267" y="7752"/>
                  <a:pt x="21233" y="7962"/>
                </a:cubicBezTo>
                <a:cubicBezTo>
                  <a:pt x="21225" y="7970"/>
                  <a:pt x="21216" y="7979"/>
                  <a:pt x="21208" y="7987"/>
                </a:cubicBezTo>
              </a:path>
              <a:path w="4218" h="1440">
                <a:moveTo>
                  <a:pt x="21530" y="7293"/>
                </a:moveTo>
                <a:cubicBezTo>
                  <a:pt x="21537" y="7510"/>
                  <a:pt x="21566" y="7722"/>
                  <a:pt x="21580" y="7938"/>
                </a:cubicBezTo>
              </a:path>
              <a:path w="4218" h="1440">
                <a:moveTo>
                  <a:pt x="21406" y="7293"/>
                </a:moveTo>
                <a:cubicBezTo>
                  <a:pt x="21717" y="7354"/>
                  <a:pt x="22002" y="7410"/>
                  <a:pt x="21903" y="7813"/>
                </a:cubicBezTo>
                <a:cubicBezTo>
                  <a:pt x="21850" y="8027"/>
                  <a:pt x="21650" y="7999"/>
                  <a:pt x="21506" y="7938"/>
                </a:cubicBezTo>
              </a:path>
              <a:path w="4218" h="1440">
                <a:moveTo>
                  <a:pt x="22076" y="7342"/>
                </a:moveTo>
                <a:cubicBezTo>
                  <a:pt x="22218" y="7497"/>
                  <a:pt x="22200" y="7626"/>
                  <a:pt x="22200" y="7838"/>
                </a:cubicBezTo>
                <a:cubicBezTo>
                  <a:pt x="22139" y="7654"/>
                  <a:pt x="22101" y="7501"/>
                  <a:pt x="22200" y="7317"/>
                </a:cubicBezTo>
                <a:cubicBezTo>
                  <a:pt x="22240" y="7242"/>
                  <a:pt x="22305" y="7249"/>
                  <a:pt x="22374" y="7243"/>
                </a:cubicBezTo>
                <a:cubicBezTo>
                  <a:pt x="22475" y="7433"/>
                  <a:pt x="22514" y="7619"/>
                  <a:pt x="22498" y="7838"/>
                </a:cubicBezTo>
                <a:cubicBezTo>
                  <a:pt x="22490" y="7879"/>
                  <a:pt x="22481" y="7921"/>
                  <a:pt x="22473" y="7962"/>
                </a:cubicBezTo>
              </a:path>
              <a:path w="4218" h="1440">
                <a:moveTo>
                  <a:pt x="22126" y="7640"/>
                </a:moveTo>
                <a:cubicBezTo>
                  <a:pt x="22229" y="7630"/>
                  <a:pt x="22300" y="7602"/>
                  <a:pt x="22399" y="7565"/>
                </a:cubicBezTo>
              </a:path>
              <a:path w="4218" h="1440">
                <a:moveTo>
                  <a:pt x="22920" y="7317"/>
                </a:moveTo>
                <a:cubicBezTo>
                  <a:pt x="22767" y="7290"/>
                  <a:pt x="22694" y="7342"/>
                  <a:pt x="22572" y="7441"/>
                </a:cubicBezTo>
                <a:cubicBezTo>
                  <a:pt x="22634" y="7535"/>
                  <a:pt x="22810" y="7463"/>
                  <a:pt x="22944" y="7541"/>
                </a:cubicBezTo>
                <a:cubicBezTo>
                  <a:pt x="23090" y="7625"/>
                  <a:pt x="23059" y="7784"/>
                  <a:pt x="22895" y="7813"/>
                </a:cubicBezTo>
                <a:cubicBezTo>
                  <a:pt x="22845" y="7813"/>
                  <a:pt x="22796" y="7813"/>
                  <a:pt x="22746" y="7813"/>
                </a:cubicBezTo>
              </a:path>
              <a:path w="4218" h="1440">
                <a:moveTo>
                  <a:pt x="19149" y="8558"/>
                </a:moveTo>
                <a:cubicBezTo>
                  <a:pt x="19113" y="8665"/>
                  <a:pt x="19128" y="8741"/>
                  <a:pt x="19273" y="8657"/>
                </a:cubicBezTo>
                <a:cubicBezTo>
                  <a:pt x="19308" y="8637"/>
                  <a:pt x="19209" y="8648"/>
                  <a:pt x="19248" y="8607"/>
                </a:cubicBezTo>
              </a:path>
              <a:path w="4218" h="1440">
                <a:moveTo>
                  <a:pt x="19968" y="8558"/>
                </a:moveTo>
                <a:cubicBezTo>
                  <a:pt x="19996" y="8502"/>
                  <a:pt x="19998" y="8486"/>
                  <a:pt x="19918" y="8508"/>
                </a:cubicBezTo>
                <a:cubicBezTo>
                  <a:pt x="19918" y="8692"/>
                  <a:pt x="19999" y="8509"/>
                  <a:pt x="19943" y="8558"/>
                </a:cubicBezTo>
                <a:cubicBezTo>
                  <a:pt x="19896" y="8599"/>
                  <a:pt x="19974" y="8676"/>
                  <a:pt x="19993" y="8582"/>
                </a:cubicBezTo>
                <a:cubicBezTo>
                  <a:pt x="19993" y="8574"/>
                  <a:pt x="19993" y="8566"/>
                  <a:pt x="19993" y="8558"/>
                </a:cubicBezTo>
              </a:path>
              <a:path w="4218" h="1440">
                <a:moveTo>
                  <a:pt x="21158" y="8161"/>
                </a:moveTo>
                <a:cubicBezTo>
                  <a:pt x="21250" y="8237"/>
                  <a:pt x="21319" y="8361"/>
                  <a:pt x="21431" y="8409"/>
                </a:cubicBezTo>
                <a:cubicBezTo>
                  <a:pt x="21513" y="8444"/>
                  <a:pt x="21557" y="8227"/>
                  <a:pt x="21580" y="8186"/>
                </a:cubicBezTo>
                <a:cubicBezTo>
                  <a:pt x="21588" y="8178"/>
                  <a:pt x="21597" y="8169"/>
                  <a:pt x="21605" y="8161"/>
                </a:cubicBezTo>
                <a:cubicBezTo>
                  <a:pt x="21525" y="8223"/>
                  <a:pt x="21460" y="8307"/>
                  <a:pt x="21406" y="8384"/>
                </a:cubicBezTo>
                <a:cubicBezTo>
                  <a:pt x="21344" y="8471"/>
                  <a:pt x="21225" y="8302"/>
                  <a:pt x="21183" y="82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6760" y="3633840"/>
            <a:ext cx="1403280" cy="573120"/>
          </a:xfrm>
          <a:custGeom>
            <a:avLst/>
            <a:gdLst/>
            <a:ahLst/>
            <a:rect l="l" t="t" r="r" b="b"/>
            <a:pathLst>
              <a:path w="3896" h="1588">
                <a:moveTo>
                  <a:pt x="12055" y="10195"/>
                </a:moveTo>
                <a:cubicBezTo>
                  <a:pt x="12060" y="10287"/>
                  <a:pt x="12072" y="10376"/>
                  <a:pt x="12080" y="10468"/>
                </a:cubicBezTo>
                <a:cubicBezTo>
                  <a:pt x="12233" y="10344"/>
                  <a:pt x="12312" y="10360"/>
                  <a:pt x="12502" y="10368"/>
                </a:cubicBezTo>
                <a:cubicBezTo>
                  <a:pt x="12706" y="10376"/>
                  <a:pt x="12918" y="10374"/>
                  <a:pt x="13122" y="10393"/>
                </a:cubicBezTo>
                <a:cubicBezTo>
                  <a:pt x="13278" y="10407"/>
                  <a:pt x="13415" y="10400"/>
                  <a:pt x="13568" y="10368"/>
                </a:cubicBezTo>
                <a:cubicBezTo>
                  <a:pt x="13652" y="10350"/>
                  <a:pt x="13705" y="10341"/>
                  <a:pt x="13791" y="10368"/>
                </a:cubicBezTo>
                <a:cubicBezTo>
                  <a:pt x="13889" y="10399"/>
                  <a:pt x="13984" y="10393"/>
                  <a:pt x="14089" y="10393"/>
                </a:cubicBezTo>
                <a:cubicBezTo>
                  <a:pt x="14152" y="10393"/>
                  <a:pt x="14179" y="10415"/>
                  <a:pt x="14238" y="10418"/>
                </a:cubicBezTo>
                <a:cubicBezTo>
                  <a:pt x="14344" y="10424"/>
                  <a:pt x="14370" y="10366"/>
                  <a:pt x="14387" y="10269"/>
                </a:cubicBezTo>
                <a:cubicBezTo>
                  <a:pt x="14387" y="10178"/>
                  <a:pt x="14387" y="10154"/>
                  <a:pt x="14387" y="10096"/>
                </a:cubicBezTo>
              </a:path>
              <a:path w="3896" h="1588">
                <a:moveTo>
                  <a:pt x="13568" y="10815"/>
                </a:moveTo>
                <a:cubicBezTo>
                  <a:pt x="13404" y="10878"/>
                  <a:pt x="13273" y="10889"/>
                  <a:pt x="13097" y="10889"/>
                </a:cubicBezTo>
                <a:cubicBezTo>
                  <a:pt x="13042" y="10889"/>
                  <a:pt x="13072" y="11098"/>
                  <a:pt x="13072" y="11112"/>
                </a:cubicBezTo>
                <a:cubicBezTo>
                  <a:pt x="13072" y="11145"/>
                  <a:pt x="13072" y="11179"/>
                  <a:pt x="13072" y="11212"/>
                </a:cubicBezTo>
                <a:cubicBezTo>
                  <a:pt x="13151" y="11183"/>
                  <a:pt x="13289" y="11091"/>
                  <a:pt x="13370" y="11162"/>
                </a:cubicBezTo>
                <a:cubicBezTo>
                  <a:pt x="13470" y="11250"/>
                  <a:pt x="13479" y="11460"/>
                  <a:pt x="13370" y="11534"/>
                </a:cubicBezTo>
                <a:cubicBezTo>
                  <a:pt x="13245" y="11619"/>
                  <a:pt x="13082" y="11621"/>
                  <a:pt x="12948" y="11584"/>
                </a:cubicBezTo>
              </a:path>
              <a:path w="3896" h="1588">
                <a:moveTo>
                  <a:pt x="10592" y="11063"/>
                </a:moveTo>
                <a:cubicBezTo>
                  <a:pt x="10558" y="11265"/>
                  <a:pt x="10549" y="11490"/>
                  <a:pt x="10492" y="11683"/>
                </a:cubicBezTo>
                <a:cubicBezTo>
                  <a:pt x="10492" y="11666"/>
                  <a:pt x="10492" y="11650"/>
                  <a:pt x="10492" y="11633"/>
                </a:cubicBezTo>
              </a:path>
              <a:path w="3896" h="1588">
                <a:moveTo>
                  <a:pt x="10840" y="11038"/>
                </a:moveTo>
                <a:cubicBezTo>
                  <a:pt x="10967" y="10948"/>
                  <a:pt x="11063" y="10943"/>
                  <a:pt x="11187" y="11063"/>
                </a:cubicBezTo>
                <a:cubicBezTo>
                  <a:pt x="11348" y="11220"/>
                  <a:pt x="11249" y="11491"/>
                  <a:pt x="11063" y="11584"/>
                </a:cubicBezTo>
                <a:cubicBezTo>
                  <a:pt x="10927" y="11607"/>
                  <a:pt x="10889" y="11621"/>
                  <a:pt x="10815" y="11559"/>
                </a:cubicBezTo>
                <a:cubicBezTo>
                  <a:pt x="10815" y="11394"/>
                  <a:pt x="10868" y="11303"/>
                  <a:pt x="11063" y="11286"/>
                </a:cubicBezTo>
                <a:cubicBezTo>
                  <a:pt x="11229" y="11272"/>
                  <a:pt x="11285" y="11432"/>
                  <a:pt x="11311" y="11559"/>
                </a:cubicBezTo>
              </a:path>
              <a:path w="3896" h="1588">
                <a:moveTo>
                  <a:pt x="11956" y="11013"/>
                </a:moveTo>
                <a:cubicBezTo>
                  <a:pt x="12025" y="11181"/>
                  <a:pt x="12017" y="11280"/>
                  <a:pt x="12005" y="11460"/>
                </a:cubicBezTo>
              </a:path>
              <a:path w="3896" h="1588">
                <a:moveTo>
                  <a:pt x="11782" y="11187"/>
                </a:moveTo>
                <a:cubicBezTo>
                  <a:pt x="11901" y="11235"/>
                  <a:pt x="12000" y="11237"/>
                  <a:pt x="12129" y="11237"/>
                </a:cubicBezTo>
                <a:cubicBezTo>
                  <a:pt x="12146" y="11237"/>
                  <a:pt x="12162" y="11237"/>
                  <a:pt x="12179" y="112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79960" y="3875040"/>
            <a:ext cx="1338120" cy="1393920"/>
          </a:xfrm>
          <a:custGeom>
            <a:avLst/>
            <a:gdLst/>
            <a:ahLst/>
            <a:rect l="l" t="t" r="r" b="b"/>
            <a:pathLst>
              <a:path w="3721" h="3871">
                <a:moveTo>
                  <a:pt x="14139" y="11038"/>
                </a:moveTo>
                <a:cubicBezTo>
                  <a:pt x="14217" y="11095"/>
                  <a:pt x="14406" y="11364"/>
                  <a:pt x="14486" y="11385"/>
                </a:cubicBezTo>
                <a:cubicBezTo>
                  <a:pt x="14503" y="11369"/>
                  <a:pt x="14519" y="11352"/>
                  <a:pt x="14536" y="11336"/>
                </a:cubicBezTo>
              </a:path>
              <a:path w="3721" h="3871">
                <a:moveTo>
                  <a:pt x="14436" y="10964"/>
                </a:moveTo>
                <a:cubicBezTo>
                  <a:pt x="14387" y="11103"/>
                  <a:pt x="14335" y="11233"/>
                  <a:pt x="14263" y="11361"/>
                </a:cubicBezTo>
              </a:path>
              <a:path w="3721" h="3871">
                <a:moveTo>
                  <a:pt x="14808" y="10889"/>
                </a:moveTo>
                <a:cubicBezTo>
                  <a:pt x="14785" y="10853"/>
                  <a:pt x="14883" y="10751"/>
                  <a:pt x="15007" y="10765"/>
                </a:cubicBezTo>
                <a:cubicBezTo>
                  <a:pt x="15114" y="10777"/>
                  <a:pt x="15159" y="10835"/>
                  <a:pt x="15131" y="10939"/>
                </a:cubicBezTo>
                <a:cubicBezTo>
                  <a:pt x="15105" y="11035"/>
                  <a:pt x="15024" y="11073"/>
                  <a:pt x="14957" y="11137"/>
                </a:cubicBezTo>
                <a:cubicBezTo>
                  <a:pt x="14870" y="11221"/>
                  <a:pt x="14808" y="11314"/>
                  <a:pt x="14784" y="11435"/>
                </a:cubicBezTo>
                <a:cubicBezTo>
                  <a:pt x="14784" y="11452"/>
                  <a:pt x="14784" y="11468"/>
                  <a:pt x="14784" y="11485"/>
                </a:cubicBezTo>
                <a:cubicBezTo>
                  <a:pt x="14835" y="11382"/>
                  <a:pt x="14859" y="11298"/>
                  <a:pt x="14957" y="11261"/>
                </a:cubicBezTo>
                <a:cubicBezTo>
                  <a:pt x="15044" y="11358"/>
                  <a:pt x="15085" y="11487"/>
                  <a:pt x="15230" y="11509"/>
                </a:cubicBezTo>
                <a:cubicBezTo>
                  <a:pt x="15280" y="11485"/>
                  <a:pt x="15296" y="11477"/>
                  <a:pt x="15329" y="11460"/>
                </a:cubicBezTo>
              </a:path>
              <a:path w="3721" h="3871">
                <a:moveTo>
                  <a:pt x="13568" y="11733"/>
                </a:moveTo>
                <a:cubicBezTo>
                  <a:pt x="13629" y="11792"/>
                  <a:pt x="13606" y="11847"/>
                  <a:pt x="13618" y="11931"/>
                </a:cubicBezTo>
                <a:cubicBezTo>
                  <a:pt x="13896" y="11888"/>
                  <a:pt x="14149" y="11838"/>
                  <a:pt x="14436" y="11832"/>
                </a:cubicBezTo>
                <a:cubicBezTo>
                  <a:pt x="14602" y="11829"/>
                  <a:pt x="14682" y="11810"/>
                  <a:pt x="14808" y="11881"/>
                </a:cubicBezTo>
                <a:cubicBezTo>
                  <a:pt x="14845" y="11776"/>
                  <a:pt x="14859" y="11692"/>
                  <a:pt x="14883" y="11584"/>
                </a:cubicBezTo>
              </a:path>
              <a:path w="3721" h="3871">
                <a:moveTo>
                  <a:pt x="13965" y="12204"/>
                </a:moveTo>
                <a:cubicBezTo>
                  <a:pt x="13986" y="12357"/>
                  <a:pt x="14015" y="12491"/>
                  <a:pt x="14015" y="12650"/>
                </a:cubicBezTo>
              </a:path>
              <a:path w="3721" h="3871">
                <a:moveTo>
                  <a:pt x="14536" y="12179"/>
                </a:moveTo>
                <a:cubicBezTo>
                  <a:pt x="14473" y="12367"/>
                  <a:pt x="14431" y="12491"/>
                  <a:pt x="14486" y="12675"/>
                </a:cubicBezTo>
                <a:cubicBezTo>
                  <a:pt x="14658" y="12634"/>
                  <a:pt x="14905" y="12492"/>
                  <a:pt x="14709" y="12278"/>
                </a:cubicBezTo>
                <a:cubicBezTo>
                  <a:pt x="14668" y="12262"/>
                  <a:pt x="14626" y="12245"/>
                  <a:pt x="14585" y="12229"/>
                </a:cubicBezTo>
              </a:path>
              <a:path w="3721" h="3871">
                <a:moveTo>
                  <a:pt x="11609" y="12328"/>
                </a:moveTo>
                <a:cubicBezTo>
                  <a:pt x="11619" y="12532"/>
                  <a:pt x="11642" y="12722"/>
                  <a:pt x="11609" y="12923"/>
                </a:cubicBezTo>
              </a:path>
              <a:path w="3721" h="3871">
                <a:moveTo>
                  <a:pt x="12005" y="12328"/>
                </a:moveTo>
                <a:cubicBezTo>
                  <a:pt x="12204" y="12375"/>
                  <a:pt x="12437" y="12411"/>
                  <a:pt x="12427" y="12675"/>
                </a:cubicBezTo>
                <a:cubicBezTo>
                  <a:pt x="12418" y="12907"/>
                  <a:pt x="12197" y="12891"/>
                  <a:pt x="12055" y="12849"/>
                </a:cubicBezTo>
                <a:cubicBezTo>
                  <a:pt x="12082" y="12702"/>
                  <a:pt x="12197" y="12659"/>
                  <a:pt x="12353" y="12725"/>
                </a:cubicBezTo>
                <a:cubicBezTo>
                  <a:pt x="12464" y="12772"/>
                  <a:pt x="12482" y="12847"/>
                  <a:pt x="12502" y="12948"/>
                </a:cubicBezTo>
              </a:path>
              <a:path w="3721" h="3871">
                <a:moveTo>
                  <a:pt x="12898" y="12353"/>
                </a:moveTo>
                <a:cubicBezTo>
                  <a:pt x="12919" y="12495"/>
                  <a:pt x="12963" y="12626"/>
                  <a:pt x="12973" y="12774"/>
                </a:cubicBezTo>
              </a:path>
              <a:path w="3721" h="3871">
                <a:moveTo>
                  <a:pt x="12774" y="12576"/>
                </a:moveTo>
                <a:cubicBezTo>
                  <a:pt x="12901" y="12591"/>
                  <a:pt x="13015" y="12576"/>
                  <a:pt x="13146" y="12576"/>
                </a:cubicBezTo>
                <a:cubicBezTo>
                  <a:pt x="13154" y="12576"/>
                  <a:pt x="13163" y="12576"/>
                  <a:pt x="13171" y="12576"/>
                </a:cubicBezTo>
              </a:path>
              <a:path w="3721" h="3871">
                <a:moveTo>
                  <a:pt x="12477" y="13643"/>
                </a:moveTo>
                <a:cubicBezTo>
                  <a:pt x="12558" y="13538"/>
                  <a:pt x="12779" y="13544"/>
                  <a:pt x="12824" y="13742"/>
                </a:cubicBezTo>
                <a:cubicBezTo>
                  <a:pt x="12883" y="13999"/>
                  <a:pt x="12663" y="14128"/>
                  <a:pt x="12477" y="14139"/>
                </a:cubicBezTo>
                <a:cubicBezTo>
                  <a:pt x="12477" y="13998"/>
                  <a:pt x="12574" y="13928"/>
                  <a:pt x="12725" y="13915"/>
                </a:cubicBezTo>
                <a:cubicBezTo>
                  <a:pt x="12877" y="13902"/>
                  <a:pt x="12896" y="13983"/>
                  <a:pt x="12923" y="14089"/>
                </a:cubicBezTo>
              </a:path>
              <a:path w="3721" h="3871">
                <a:moveTo>
                  <a:pt x="13171" y="13543"/>
                </a:moveTo>
                <a:cubicBezTo>
                  <a:pt x="13293" y="13458"/>
                  <a:pt x="13363" y="13453"/>
                  <a:pt x="13444" y="13593"/>
                </a:cubicBezTo>
                <a:cubicBezTo>
                  <a:pt x="13525" y="13734"/>
                  <a:pt x="13396" y="13901"/>
                  <a:pt x="13295" y="13990"/>
                </a:cubicBezTo>
                <a:cubicBezTo>
                  <a:pt x="13224" y="14037"/>
                  <a:pt x="13202" y="14053"/>
                  <a:pt x="13146" y="14064"/>
                </a:cubicBezTo>
                <a:cubicBezTo>
                  <a:pt x="13133" y="13978"/>
                  <a:pt x="13131" y="13881"/>
                  <a:pt x="13246" y="13841"/>
                </a:cubicBezTo>
                <a:cubicBezTo>
                  <a:pt x="13347" y="13806"/>
                  <a:pt x="13435" y="13853"/>
                  <a:pt x="13494" y="13915"/>
                </a:cubicBezTo>
                <a:cubicBezTo>
                  <a:pt x="13519" y="13940"/>
                  <a:pt x="13543" y="13965"/>
                  <a:pt x="13568" y="13990"/>
                </a:cubicBezTo>
              </a:path>
              <a:path w="3721" h="3871">
                <a:moveTo>
                  <a:pt x="12626" y="14486"/>
                </a:moveTo>
                <a:cubicBezTo>
                  <a:pt x="12763" y="14624"/>
                  <a:pt x="12843" y="14647"/>
                  <a:pt x="13047" y="14635"/>
                </a:cubicBezTo>
                <a:cubicBezTo>
                  <a:pt x="13315" y="14619"/>
                  <a:pt x="13631" y="14543"/>
                  <a:pt x="13866" y="14412"/>
                </a:cubicBezTo>
                <a:cubicBezTo>
                  <a:pt x="14069" y="14299"/>
                  <a:pt x="14178" y="14163"/>
                  <a:pt x="14188" y="13940"/>
                </a:cubicBezTo>
                <a:cubicBezTo>
                  <a:pt x="14197" y="13745"/>
                  <a:pt x="14138" y="13628"/>
                  <a:pt x="14039" y="13469"/>
                </a:cubicBezTo>
                <a:cubicBezTo>
                  <a:pt x="13945" y="13317"/>
                  <a:pt x="13823" y="13209"/>
                  <a:pt x="13667" y="13122"/>
                </a:cubicBezTo>
                <a:cubicBezTo>
                  <a:pt x="13548" y="13056"/>
                  <a:pt x="13474" y="13022"/>
                  <a:pt x="13345" y="12998"/>
                </a:cubicBezTo>
                <a:cubicBezTo>
                  <a:pt x="13201" y="12971"/>
                  <a:pt x="13017" y="13000"/>
                  <a:pt x="12874" y="13047"/>
                </a:cubicBezTo>
                <a:cubicBezTo>
                  <a:pt x="12684" y="13109"/>
                  <a:pt x="12524" y="13220"/>
                  <a:pt x="12353" y="13320"/>
                </a:cubicBezTo>
                <a:cubicBezTo>
                  <a:pt x="12178" y="13422"/>
                  <a:pt x="11919" y="13543"/>
                  <a:pt x="11832" y="13742"/>
                </a:cubicBezTo>
                <a:cubicBezTo>
                  <a:pt x="11746" y="13939"/>
                  <a:pt x="11844" y="14106"/>
                  <a:pt x="11956" y="14263"/>
                </a:cubicBezTo>
                <a:cubicBezTo>
                  <a:pt x="12066" y="14418"/>
                  <a:pt x="12163" y="14500"/>
                  <a:pt x="12353" y="14536"/>
                </a:cubicBezTo>
                <a:cubicBezTo>
                  <a:pt x="12526" y="14569"/>
                  <a:pt x="12699" y="14560"/>
                  <a:pt x="12874" y="145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0680" y="2608200"/>
            <a:ext cx="3214440" cy="169920"/>
          </a:xfrm>
          <a:custGeom>
            <a:avLst/>
            <a:gdLst/>
            <a:ahLst/>
            <a:rect l="l" t="t" r="r" b="b"/>
            <a:pathLst>
              <a:path w="8931" h="472">
                <a:moveTo>
                  <a:pt x="7863" y="7714"/>
                </a:moveTo>
                <a:cubicBezTo>
                  <a:pt x="8060" y="7676"/>
                  <a:pt x="8260" y="7649"/>
                  <a:pt x="8458" y="7615"/>
                </a:cubicBezTo>
                <a:cubicBezTo>
                  <a:pt x="8735" y="7568"/>
                  <a:pt x="9020" y="7507"/>
                  <a:pt x="9302" y="7491"/>
                </a:cubicBezTo>
                <a:cubicBezTo>
                  <a:pt x="9576" y="7475"/>
                  <a:pt x="9826" y="7440"/>
                  <a:pt x="10096" y="7392"/>
                </a:cubicBezTo>
                <a:cubicBezTo>
                  <a:pt x="10281" y="7359"/>
                  <a:pt x="10478" y="7345"/>
                  <a:pt x="10666" y="7342"/>
                </a:cubicBezTo>
                <a:cubicBezTo>
                  <a:pt x="10972" y="7337"/>
                  <a:pt x="11280" y="7348"/>
                  <a:pt x="11584" y="7367"/>
                </a:cubicBezTo>
                <a:cubicBezTo>
                  <a:pt x="11982" y="7392"/>
                  <a:pt x="12375" y="7443"/>
                  <a:pt x="12774" y="7466"/>
                </a:cubicBezTo>
                <a:cubicBezTo>
                  <a:pt x="13308" y="7497"/>
                  <a:pt x="13853" y="7494"/>
                  <a:pt x="14387" y="7441"/>
                </a:cubicBezTo>
                <a:cubicBezTo>
                  <a:pt x="14892" y="7391"/>
                  <a:pt x="15394" y="7332"/>
                  <a:pt x="15900" y="7293"/>
                </a:cubicBezTo>
                <a:cubicBezTo>
                  <a:pt x="16197" y="7270"/>
                  <a:pt x="16504" y="7268"/>
                  <a:pt x="16793" y="72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1- Order of Operations Day 2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1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:  What is the order in which we perform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hesis   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s     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(left to righ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(left to 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38360" y="2170080"/>
            <a:ext cx="303480" cy="17640"/>
          </a:xfrm>
          <a:custGeom>
            <a:avLst/>
            <a:gdLst/>
            <a:ahLst/>
            <a:rect l="l" t="t" r="r" b="b"/>
            <a:pathLst>
              <a:path w="844" h="50">
                <a:moveTo>
                  <a:pt x="9550" y="6052"/>
                </a:moveTo>
                <a:cubicBezTo>
                  <a:pt x="9642" y="6083"/>
                  <a:pt x="9724" y="6077"/>
                  <a:pt x="9823" y="6077"/>
                </a:cubicBezTo>
                <a:cubicBezTo>
                  <a:pt x="9930" y="6077"/>
                  <a:pt x="10017" y="6067"/>
                  <a:pt x="10120" y="6052"/>
                </a:cubicBezTo>
                <a:cubicBezTo>
                  <a:pt x="10189" y="6042"/>
                  <a:pt x="10252" y="6042"/>
                  <a:pt x="10319" y="6028"/>
                </a:cubicBezTo>
                <a:cubicBezTo>
                  <a:pt x="10352" y="6028"/>
                  <a:pt x="10368" y="6028"/>
                  <a:pt x="10393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27280" y="2643120"/>
            <a:ext cx="339840" cy="19080"/>
          </a:xfrm>
          <a:custGeom>
            <a:avLst/>
            <a:gdLst/>
            <a:ahLst/>
            <a:rect l="l" t="t" r="r" b="b"/>
            <a:pathLst>
              <a:path w="943" h="51">
                <a:moveTo>
                  <a:pt x="9798" y="7367"/>
                </a:moveTo>
                <a:cubicBezTo>
                  <a:pt x="9925" y="7367"/>
                  <a:pt x="10044" y="7389"/>
                  <a:pt x="10170" y="7392"/>
                </a:cubicBezTo>
                <a:cubicBezTo>
                  <a:pt x="10284" y="7395"/>
                  <a:pt x="10381" y="7372"/>
                  <a:pt x="10492" y="7367"/>
                </a:cubicBezTo>
                <a:cubicBezTo>
                  <a:pt x="10573" y="7363"/>
                  <a:pt x="10677" y="7391"/>
                  <a:pt x="10740" y="73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97160" y="3251160"/>
            <a:ext cx="204840" cy="79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8880" y="9029"/>
                </a:moveTo>
                <a:cubicBezTo>
                  <a:pt x="8965" y="9061"/>
                  <a:pt x="9034" y="9054"/>
                  <a:pt x="9128" y="9054"/>
                </a:cubicBezTo>
                <a:cubicBezTo>
                  <a:pt x="9236" y="9054"/>
                  <a:pt x="9343" y="9054"/>
                  <a:pt x="9451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1800" y="2108160"/>
            <a:ext cx="169920" cy="17640"/>
          </a:xfrm>
          <a:custGeom>
            <a:avLst/>
            <a:gdLst/>
            <a:ahLst/>
            <a:rect l="l" t="t" r="r" b="b"/>
            <a:pathLst>
              <a:path w="473" h="51">
                <a:moveTo>
                  <a:pt x="2505" y="5854"/>
                </a:moveTo>
                <a:cubicBezTo>
                  <a:pt x="2575" y="5863"/>
                  <a:pt x="2630" y="5879"/>
                  <a:pt x="2704" y="5879"/>
                </a:cubicBezTo>
                <a:cubicBezTo>
                  <a:pt x="2769" y="5879"/>
                  <a:pt x="2814" y="5900"/>
                  <a:pt x="2877" y="5904"/>
                </a:cubicBezTo>
                <a:cubicBezTo>
                  <a:pt x="2910" y="5906"/>
                  <a:pt x="2944" y="5904"/>
                  <a:pt x="2977" y="59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28800" y="2652840"/>
            <a:ext cx="285480" cy="34920"/>
          </a:xfrm>
          <a:custGeom>
            <a:avLst/>
            <a:gdLst/>
            <a:ahLst/>
            <a:rect l="l" t="t" r="r" b="b"/>
            <a:pathLst>
              <a:path w="794" h="100">
                <a:moveTo>
                  <a:pt x="2580" y="7466"/>
                </a:moveTo>
                <a:cubicBezTo>
                  <a:pt x="2678" y="7454"/>
                  <a:pt x="2776" y="7413"/>
                  <a:pt x="2877" y="7392"/>
                </a:cubicBezTo>
                <a:cubicBezTo>
                  <a:pt x="3011" y="7364"/>
                  <a:pt x="3137" y="7367"/>
                  <a:pt x="3274" y="7367"/>
                </a:cubicBezTo>
                <a:cubicBezTo>
                  <a:pt x="3324" y="7367"/>
                  <a:pt x="3340" y="7367"/>
                  <a:pt x="3373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46080" y="3259080"/>
            <a:ext cx="233280" cy="27000"/>
          </a:xfrm>
          <a:custGeom>
            <a:avLst/>
            <a:gdLst/>
            <a:ahLst/>
            <a:rect l="l" t="t" r="r" b="b"/>
            <a:pathLst>
              <a:path w="646" h="75">
                <a:moveTo>
                  <a:pt x="2629" y="9128"/>
                </a:moveTo>
                <a:cubicBezTo>
                  <a:pt x="2708" y="9066"/>
                  <a:pt x="2778" y="9079"/>
                  <a:pt x="2877" y="9079"/>
                </a:cubicBezTo>
                <a:cubicBezTo>
                  <a:pt x="2959" y="9079"/>
                  <a:pt x="3033" y="9067"/>
                  <a:pt x="3101" y="9054"/>
                </a:cubicBezTo>
                <a:cubicBezTo>
                  <a:pt x="3155" y="9044"/>
                  <a:pt x="3219" y="9054"/>
                  <a:pt x="3274" y="90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65160" y="3875040"/>
            <a:ext cx="169920" cy="19080"/>
          </a:xfrm>
          <a:custGeom>
            <a:avLst/>
            <a:gdLst/>
            <a:ahLst/>
            <a:rect l="l" t="t" r="r" b="b"/>
            <a:pathLst>
              <a:path w="472" h="51">
                <a:moveTo>
                  <a:pt x="2679" y="10765"/>
                </a:moveTo>
                <a:cubicBezTo>
                  <a:pt x="2812" y="10778"/>
                  <a:pt x="2940" y="10811"/>
                  <a:pt x="3076" y="10815"/>
                </a:cubicBezTo>
                <a:cubicBezTo>
                  <a:pt x="3101" y="10815"/>
                  <a:pt x="3125" y="10815"/>
                  <a:pt x="3150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81200" y="3894120"/>
            <a:ext cx="150840" cy="17640"/>
          </a:xfrm>
          <a:custGeom>
            <a:avLst/>
            <a:gdLst/>
            <a:ahLst/>
            <a:rect l="l" t="t" r="r" b="b"/>
            <a:pathLst>
              <a:path w="422" h="50">
                <a:moveTo>
                  <a:pt x="7169" y="10864"/>
                </a:moveTo>
                <a:cubicBezTo>
                  <a:pt x="7312" y="10829"/>
                  <a:pt x="7443" y="10815"/>
                  <a:pt x="7590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terday PEMDAS; today Aunt S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brainpop.org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014720" y="2714760"/>
            <a:ext cx="245916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 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 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62120" y="38098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M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kill Practice:  Complete the problems below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6 x (2+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x 7 – 5 x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 +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(6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50 x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733920" y="5105520"/>
          <a:ext cx="91440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914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1120" y="1857240"/>
            <a:ext cx="1384200" cy="492120"/>
          </a:xfrm>
          <a:custGeom>
            <a:avLst/>
            <a:gdLst/>
            <a:ahLst/>
            <a:rect l="l" t="t" r="r" b="b"/>
            <a:pathLst>
              <a:path w="3846" h="1366">
                <a:moveTo>
                  <a:pt x="1191" y="5457"/>
                </a:moveTo>
                <a:cubicBezTo>
                  <a:pt x="1269" y="5710"/>
                  <a:pt x="1272" y="5963"/>
                  <a:pt x="1290" y="6226"/>
                </a:cubicBezTo>
                <a:cubicBezTo>
                  <a:pt x="1290" y="6243"/>
                  <a:pt x="1290" y="6259"/>
                  <a:pt x="1290" y="6276"/>
                </a:cubicBezTo>
                <a:cubicBezTo>
                  <a:pt x="1197" y="6042"/>
                  <a:pt x="1110" y="5810"/>
                  <a:pt x="1166" y="5556"/>
                </a:cubicBezTo>
                <a:cubicBezTo>
                  <a:pt x="1236" y="5369"/>
                  <a:pt x="1252" y="5312"/>
                  <a:pt x="1364" y="5234"/>
                </a:cubicBezTo>
                <a:cubicBezTo>
                  <a:pt x="1507" y="5233"/>
                  <a:pt x="1601" y="5416"/>
                  <a:pt x="1513" y="5581"/>
                </a:cubicBezTo>
                <a:cubicBezTo>
                  <a:pt x="1452" y="5696"/>
                  <a:pt x="1275" y="5846"/>
                  <a:pt x="1191" y="5705"/>
                </a:cubicBezTo>
              </a:path>
              <a:path w="3846" h="1366">
                <a:moveTo>
                  <a:pt x="2208" y="5507"/>
                </a:moveTo>
                <a:cubicBezTo>
                  <a:pt x="2196" y="5422"/>
                  <a:pt x="2155" y="5355"/>
                  <a:pt x="2059" y="5333"/>
                </a:cubicBezTo>
                <a:cubicBezTo>
                  <a:pt x="1946" y="5307"/>
                  <a:pt x="1792" y="5359"/>
                  <a:pt x="1761" y="5482"/>
                </a:cubicBezTo>
                <a:cubicBezTo>
                  <a:pt x="1727" y="5617"/>
                  <a:pt x="1938" y="5663"/>
                  <a:pt x="2034" y="5655"/>
                </a:cubicBezTo>
                <a:cubicBezTo>
                  <a:pt x="2067" y="5647"/>
                  <a:pt x="2100" y="5639"/>
                  <a:pt x="2133" y="5631"/>
                </a:cubicBezTo>
                <a:cubicBezTo>
                  <a:pt x="1964" y="5659"/>
                  <a:pt x="1779" y="5743"/>
                  <a:pt x="1687" y="5904"/>
                </a:cubicBezTo>
                <a:cubicBezTo>
                  <a:pt x="1664" y="6020"/>
                  <a:pt x="1653" y="6053"/>
                  <a:pt x="1687" y="6127"/>
                </a:cubicBezTo>
                <a:cubicBezTo>
                  <a:pt x="1853" y="6176"/>
                  <a:pt x="1920" y="6152"/>
                  <a:pt x="2084" y="6077"/>
                </a:cubicBezTo>
              </a:path>
              <a:path w="3846" h="1366">
                <a:moveTo>
                  <a:pt x="2456" y="5358"/>
                </a:moveTo>
                <a:cubicBezTo>
                  <a:pt x="2424" y="5554"/>
                  <a:pt x="2384" y="5737"/>
                  <a:pt x="2332" y="5928"/>
                </a:cubicBezTo>
                <a:cubicBezTo>
                  <a:pt x="2332" y="5769"/>
                  <a:pt x="2341" y="5656"/>
                  <a:pt x="2406" y="5507"/>
                </a:cubicBezTo>
                <a:cubicBezTo>
                  <a:pt x="2463" y="5377"/>
                  <a:pt x="2533" y="5324"/>
                  <a:pt x="2654" y="5259"/>
                </a:cubicBezTo>
                <a:cubicBezTo>
                  <a:pt x="2753" y="5206"/>
                  <a:pt x="2795" y="5283"/>
                  <a:pt x="2828" y="5383"/>
                </a:cubicBezTo>
                <a:cubicBezTo>
                  <a:pt x="2855" y="5515"/>
                  <a:pt x="2862" y="5564"/>
                  <a:pt x="2828" y="5655"/>
                </a:cubicBezTo>
                <a:cubicBezTo>
                  <a:pt x="2828" y="5680"/>
                  <a:pt x="2828" y="5705"/>
                  <a:pt x="2828" y="5730"/>
                </a:cubicBezTo>
                <a:cubicBezTo>
                  <a:pt x="2814" y="5617"/>
                  <a:pt x="2809" y="5489"/>
                  <a:pt x="2877" y="5383"/>
                </a:cubicBezTo>
                <a:cubicBezTo>
                  <a:pt x="2912" y="5328"/>
                  <a:pt x="2973" y="5292"/>
                  <a:pt x="3026" y="5259"/>
                </a:cubicBezTo>
                <a:cubicBezTo>
                  <a:pt x="3155" y="5275"/>
                  <a:pt x="3191" y="5345"/>
                  <a:pt x="3175" y="5482"/>
                </a:cubicBezTo>
                <a:cubicBezTo>
                  <a:pt x="3161" y="5603"/>
                  <a:pt x="3093" y="5708"/>
                  <a:pt x="3076" y="5829"/>
                </a:cubicBezTo>
              </a:path>
              <a:path w="3846" h="1366">
                <a:moveTo>
                  <a:pt x="3423" y="5259"/>
                </a:moveTo>
                <a:cubicBezTo>
                  <a:pt x="3398" y="5439"/>
                  <a:pt x="3403" y="5625"/>
                  <a:pt x="3373" y="5804"/>
                </a:cubicBezTo>
                <a:cubicBezTo>
                  <a:pt x="3373" y="5788"/>
                  <a:pt x="3373" y="5771"/>
                  <a:pt x="3373" y="5755"/>
                </a:cubicBezTo>
              </a:path>
              <a:path w="3846" h="1366">
                <a:moveTo>
                  <a:pt x="3349" y="5184"/>
                </a:moveTo>
                <a:cubicBezTo>
                  <a:pt x="3528" y="5168"/>
                  <a:pt x="3695" y="5144"/>
                  <a:pt x="3795" y="5333"/>
                </a:cubicBezTo>
                <a:cubicBezTo>
                  <a:pt x="3870" y="5474"/>
                  <a:pt x="3792" y="5670"/>
                  <a:pt x="3696" y="5779"/>
                </a:cubicBezTo>
                <a:cubicBezTo>
                  <a:pt x="3592" y="5897"/>
                  <a:pt x="3473" y="5860"/>
                  <a:pt x="3349" y="5804"/>
                </a:cubicBezTo>
                <a:cubicBezTo>
                  <a:pt x="3332" y="5796"/>
                  <a:pt x="3316" y="5787"/>
                  <a:pt x="3299" y="5779"/>
                </a:cubicBezTo>
              </a:path>
              <a:path w="3846" h="1366">
                <a:moveTo>
                  <a:pt x="4118" y="5333"/>
                </a:moveTo>
                <a:cubicBezTo>
                  <a:pt x="4030" y="5479"/>
                  <a:pt x="3968" y="5648"/>
                  <a:pt x="3894" y="5804"/>
                </a:cubicBezTo>
                <a:cubicBezTo>
                  <a:pt x="3943" y="5570"/>
                  <a:pt x="4001" y="5436"/>
                  <a:pt x="4167" y="5259"/>
                </a:cubicBezTo>
                <a:cubicBezTo>
                  <a:pt x="4242" y="5180"/>
                  <a:pt x="4266" y="5170"/>
                  <a:pt x="4366" y="5159"/>
                </a:cubicBezTo>
                <a:cubicBezTo>
                  <a:pt x="4428" y="5323"/>
                  <a:pt x="4464" y="5425"/>
                  <a:pt x="4415" y="5606"/>
                </a:cubicBezTo>
                <a:cubicBezTo>
                  <a:pt x="4373" y="5713"/>
                  <a:pt x="4362" y="5737"/>
                  <a:pt x="4341" y="5804"/>
                </a:cubicBezTo>
              </a:path>
              <a:path w="3846" h="1366">
                <a:moveTo>
                  <a:pt x="4068" y="5556"/>
                </a:moveTo>
                <a:cubicBezTo>
                  <a:pt x="4151" y="5533"/>
                  <a:pt x="4227" y="5531"/>
                  <a:pt x="4316" y="5531"/>
                </a:cubicBezTo>
              </a:path>
              <a:path w="3846" h="1366">
                <a:moveTo>
                  <a:pt x="4961" y="5308"/>
                </a:moveTo>
                <a:cubicBezTo>
                  <a:pt x="4921" y="5203"/>
                  <a:pt x="4855" y="5189"/>
                  <a:pt x="4738" y="5184"/>
                </a:cubicBezTo>
                <a:cubicBezTo>
                  <a:pt x="4639" y="5179"/>
                  <a:pt x="4624" y="5223"/>
                  <a:pt x="4614" y="5308"/>
                </a:cubicBezTo>
                <a:cubicBezTo>
                  <a:pt x="4707" y="5350"/>
                  <a:pt x="4829" y="5368"/>
                  <a:pt x="4911" y="5432"/>
                </a:cubicBezTo>
                <a:cubicBezTo>
                  <a:pt x="4979" y="5485"/>
                  <a:pt x="4986" y="5528"/>
                  <a:pt x="4986" y="5606"/>
                </a:cubicBezTo>
                <a:cubicBezTo>
                  <a:pt x="4855" y="5658"/>
                  <a:pt x="4773" y="5647"/>
                  <a:pt x="4638" y="5631"/>
                </a:cubicBezTo>
                <a:cubicBezTo>
                  <a:pt x="4622" y="5631"/>
                  <a:pt x="4605" y="5631"/>
                  <a:pt x="4589" y="5631"/>
                </a:cubicBezTo>
              </a:path>
              <a:path w="3846" h="1366">
                <a:moveTo>
                  <a:pt x="1364" y="6524"/>
                </a:moveTo>
                <a:lnTo>
                  <a:pt x="1364" y="652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0680" y="2357280"/>
            <a:ext cx="28440" cy="36720"/>
          </a:xfrm>
          <a:custGeom>
            <a:avLst/>
            <a:gdLst/>
            <a:ahLst/>
            <a:rect l="l" t="t" r="r" b="b"/>
            <a:pathLst>
              <a:path w="76" h="101">
                <a:moveTo>
                  <a:pt x="1439" y="6648"/>
                </a:moveTo>
                <a:cubicBezTo>
                  <a:pt x="1377" y="6633"/>
                  <a:pt x="1373" y="6609"/>
                  <a:pt x="1364" y="65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960" y="2276640"/>
            <a:ext cx="17280" cy="28440"/>
          </a:xfrm>
          <a:custGeom>
            <a:avLst/>
            <a:gdLst/>
            <a:ahLst/>
            <a:rect l="l" t="t" r="r" b="b"/>
            <a:pathLst>
              <a:path w="51" h="76">
                <a:moveTo>
                  <a:pt x="2009" y="6325"/>
                </a:moveTo>
                <a:cubicBezTo>
                  <a:pt x="2026" y="6350"/>
                  <a:pt x="2042" y="6375"/>
                  <a:pt x="2059" y="64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2000" y="2152800"/>
            <a:ext cx="108000" cy="10620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2952" y="6028"/>
                </a:moveTo>
                <a:cubicBezTo>
                  <a:pt x="2994" y="6076"/>
                  <a:pt x="3038" y="6125"/>
                  <a:pt x="3076" y="6176"/>
                </a:cubicBezTo>
                <a:cubicBezTo>
                  <a:pt x="3092" y="6201"/>
                  <a:pt x="3109" y="6226"/>
                  <a:pt x="3125" y="6251"/>
                </a:cubicBezTo>
                <a:cubicBezTo>
                  <a:pt x="3183" y="6155"/>
                  <a:pt x="3163" y="6144"/>
                  <a:pt x="3200" y="6052"/>
                </a:cubicBezTo>
                <a:cubicBezTo>
                  <a:pt x="3230" y="6023"/>
                  <a:pt x="3241" y="6009"/>
                  <a:pt x="3249" y="5978"/>
                </a:cubicBezTo>
                <a:cubicBezTo>
                  <a:pt x="3206" y="6075"/>
                  <a:pt x="3184" y="6155"/>
                  <a:pt x="3150" y="6251"/>
                </a:cubicBezTo>
                <a:cubicBezTo>
                  <a:pt x="3142" y="6259"/>
                  <a:pt x="3133" y="6268"/>
                  <a:pt x="3125" y="6276"/>
                </a:cubicBezTo>
                <a:cubicBezTo>
                  <a:pt x="3079" y="6190"/>
                  <a:pt x="3021" y="6119"/>
                  <a:pt x="3001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3106800"/>
            <a:ext cx="849240" cy="706320"/>
          </a:xfrm>
          <a:custGeom>
            <a:avLst/>
            <a:gdLst/>
            <a:ahLst/>
            <a:rect l="l" t="t" r="r" b="b"/>
            <a:pathLst>
              <a:path w="2358" h="1961">
                <a:moveTo>
                  <a:pt x="4366" y="8682"/>
                </a:moveTo>
                <a:cubicBezTo>
                  <a:pt x="4366" y="8834"/>
                  <a:pt x="4393" y="8789"/>
                  <a:pt x="4539" y="8781"/>
                </a:cubicBezTo>
                <a:cubicBezTo>
                  <a:pt x="4660" y="8774"/>
                  <a:pt x="4774" y="8789"/>
                  <a:pt x="4887" y="8806"/>
                </a:cubicBezTo>
                <a:cubicBezTo>
                  <a:pt x="4958" y="8817"/>
                  <a:pt x="5018" y="8830"/>
                  <a:pt x="5085" y="8855"/>
                </a:cubicBezTo>
                <a:cubicBezTo>
                  <a:pt x="5085" y="8772"/>
                  <a:pt x="5095" y="8709"/>
                  <a:pt x="5110" y="8632"/>
                </a:cubicBezTo>
              </a:path>
              <a:path w="2358" h="1961">
                <a:moveTo>
                  <a:pt x="4812" y="9054"/>
                </a:moveTo>
                <a:cubicBezTo>
                  <a:pt x="4757" y="9057"/>
                  <a:pt x="4467" y="9050"/>
                  <a:pt x="4440" y="9079"/>
                </a:cubicBezTo>
                <a:cubicBezTo>
                  <a:pt x="4392" y="9174"/>
                  <a:pt x="4375" y="9203"/>
                  <a:pt x="4390" y="9277"/>
                </a:cubicBezTo>
                <a:cubicBezTo>
                  <a:pt x="4409" y="9335"/>
                  <a:pt x="4511" y="9290"/>
                  <a:pt x="4564" y="9277"/>
                </a:cubicBezTo>
                <a:cubicBezTo>
                  <a:pt x="4697" y="9245"/>
                  <a:pt x="4816" y="9217"/>
                  <a:pt x="4862" y="9376"/>
                </a:cubicBezTo>
                <a:cubicBezTo>
                  <a:pt x="4913" y="9554"/>
                  <a:pt x="4547" y="9555"/>
                  <a:pt x="4465" y="9550"/>
                </a:cubicBezTo>
                <a:cubicBezTo>
                  <a:pt x="4432" y="9542"/>
                  <a:pt x="4399" y="9533"/>
                  <a:pt x="4366" y="9525"/>
                </a:cubicBezTo>
              </a:path>
              <a:path w="2358" h="1961">
                <a:moveTo>
                  <a:pt x="2828" y="8954"/>
                </a:moveTo>
                <a:cubicBezTo>
                  <a:pt x="2804" y="9043"/>
                  <a:pt x="2802" y="9140"/>
                  <a:pt x="2778" y="9227"/>
                </a:cubicBezTo>
                <a:cubicBezTo>
                  <a:pt x="2764" y="9279"/>
                  <a:pt x="2727" y="9379"/>
                  <a:pt x="2778" y="9426"/>
                </a:cubicBezTo>
                <a:cubicBezTo>
                  <a:pt x="2820" y="9464"/>
                  <a:pt x="2941" y="9426"/>
                  <a:pt x="3001" y="9426"/>
                </a:cubicBezTo>
                <a:cubicBezTo>
                  <a:pt x="3092" y="9426"/>
                  <a:pt x="3130" y="9417"/>
                  <a:pt x="3200" y="9351"/>
                </a:cubicBezTo>
                <a:cubicBezTo>
                  <a:pt x="3244" y="9307"/>
                  <a:pt x="3261" y="9297"/>
                  <a:pt x="3249" y="9252"/>
                </a:cubicBezTo>
                <a:cubicBezTo>
                  <a:pt x="3152" y="9187"/>
                  <a:pt x="3119" y="9178"/>
                  <a:pt x="3051" y="9277"/>
                </a:cubicBezTo>
                <a:cubicBezTo>
                  <a:pt x="3007" y="9342"/>
                  <a:pt x="2988" y="9388"/>
                  <a:pt x="3026" y="9451"/>
                </a:cubicBezTo>
              </a:path>
              <a:path w="2358" h="1961">
                <a:moveTo>
                  <a:pt x="3522" y="9079"/>
                </a:moveTo>
                <a:cubicBezTo>
                  <a:pt x="3575" y="9184"/>
                  <a:pt x="3630" y="9232"/>
                  <a:pt x="3721" y="9302"/>
                </a:cubicBezTo>
                <a:cubicBezTo>
                  <a:pt x="3729" y="9310"/>
                  <a:pt x="3738" y="9319"/>
                  <a:pt x="3746" y="9327"/>
                </a:cubicBezTo>
              </a:path>
              <a:path w="2358" h="1961">
                <a:moveTo>
                  <a:pt x="3746" y="8979"/>
                </a:moveTo>
                <a:cubicBezTo>
                  <a:pt x="3658" y="9102"/>
                  <a:pt x="3610" y="9251"/>
                  <a:pt x="3522" y="9376"/>
                </a:cubicBezTo>
                <a:cubicBezTo>
                  <a:pt x="3506" y="9393"/>
                  <a:pt x="3489" y="9409"/>
                  <a:pt x="3473" y="9426"/>
                </a:cubicBezTo>
              </a:path>
              <a:path w="2358" h="1961">
                <a:moveTo>
                  <a:pt x="3324" y="10021"/>
                </a:moveTo>
                <a:cubicBezTo>
                  <a:pt x="3349" y="10008"/>
                  <a:pt x="3606" y="9873"/>
                  <a:pt x="3572" y="10021"/>
                </a:cubicBezTo>
                <a:cubicBezTo>
                  <a:pt x="3554" y="10100"/>
                  <a:pt x="3503" y="10129"/>
                  <a:pt x="3448" y="10145"/>
                </a:cubicBezTo>
                <a:cubicBezTo>
                  <a:pt x="3516" y="10145"/>
                  <a:pt x="3535" y="10142"/>
                  <a:pt x="3572" y="10170"/>
                </a:cubicBezTo>
                <a:cubicBezTo>
                  <a:pt x="3603" y="10325"/>
                  <a:pt x="3504" y="10434"/>
                  <a:pt x="3324" y="10393"/>
                </a:cubicBezTo>
                <a:cubicBezTo>
                  <a:pt x="3279" y="10349"/>
                  <a:pt x="3262" y="10339"/>
                  <a:pt x="3274" y="10294"/>
                </a:cubicBezTo>
              </a:path>
              <a:path w="2358" h="1961">
                <a:moveTo>
                  <a:pt x="3919" y="9872"/>
                </a:moveTo>
                <a:cubicBezTo>
                  <a:pt x="3792" y="9904"/>
                  <a:pt x="3776" y="9991"/>
                  <a:pt x="3770" y="10120"/>
                </a:cubicBezTo>
                <a:cubicBezTo>
                  <a:pt x="3764" y="10241"/>
                  <a:pt x="3857" y="10428"/>
                  <a:pt x="4018" y="10319"/>
                </a:cubicBezTo>
                <a:cubicBezTo>
                  <a:pt x="4145" y="10233"/>
                  <a:pt x="4149" y="10028"/>
                  <a:pt x="4043" y="9947"/>
                </a:cubicBezTo>
                <a:cubicBezTo>
                  <a:pt x="4027" y="9939"/>
                  <a:pt x="4010" y="9930"/>
                  <a:pt x="3994" y="9922"/>
                </a:cubicBezTo>
              </a:path>
              <a:path w="2358" h="1961">
                <a:moveTo>
                  <a:pt x="3101" y="10567"/>
                </a:moveTo>
                <a:cubicBezTo>
                  <a:pt x="3248" y="10592"/>
                  <a:pt x="3394" y="10603"/>
                  <a:pt x="3547" y="10592"/>
                </a:cubicBezTo>
                <a:cubicBezTo>
                  <a:pt x="3791" y="10574"/>
                  <a:pt x="3993" y="10512"/>
                  <a:pt x="4217" y="10418"/>
                </a:cubicBezTo>
                <a:cubicBezTo>
                  <a:pt x="4412" y="10336"/>
                  <a:pt x="4619" y="10250"/>
                  <a:pt x="4663" y="10021"/>
                </a:cubicBezTo>
                <a:cubicBezTo>
                  <a:pt x="4694" y="9856"/>
                  <a:pt x="4552" y="9717"/>
                  <a:pt x="4440" y="9624"/>
                </a:cubicBezTo>
                <a:cubicBezTo>
                  <a:pt x="4282" y="9493"/>
                  <a:pt x="4124" y="9461"/>
                  <a:pt x="3919" y="9475"/>
                </a:cubicBezTo>
                <a:cubicBezTo>
                  <a:pt x="3738" y="9488"/>
                  <a:pt x="3485" y="9565"/>
                  <a:pt x="3324" y="9649"/>
                </a:cubicBezTo>
                <a:cubicBezTo>
                  <a:pt x="3187" y="9720"/>
                  <a:pt x="2996" y="9836"/>
                  <a:pt x="2927" y="9971"/>
                </a:cubicBezTo>
                <a:cubicBezTo>
                  <a:pt x="2852" y="10117"/>
                  <a:pt x="2855" y="10271"/>
                  <a:pt x="2977" y="10393"/>
                </a:cubicBezTo>
                <a:cubicBezTo>
                  <a:pt x="3128" y="10544"/>
                  <a:pt x="3349" y="10536"/>
                  <a:pt x="3547" y="10517"/>
                </a:cubicBezTo>
                <a:cubicBezTo>
                  <a:pt x="3648" y="10497"/>
                  <a:pt x="3668" y="10499"/>
                  <a:pt x="3721" y="104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8080" y="3241800"/>
            <a:ext cx="322200" cy="206280"/>
          </a:xfrm>
          <a:custGeom>
            <a:avLst/>
            <a:gdLst/>
            <a:ahLst/>
            <a:rect l="l" t="t" r="r" b="b"/>
            <a:pathLst>
              <a:path w="894" h="572">
                <a:moveTo>
                  <a:pt x="18579" y="9079"/>
                </a:moveTo>
                <a:cubicBezTo>
                  <a:pt x="18640" y="9031"/>
                  <a:pt x="18781" y="8942"/>
                  <a:pt x="18827" y="9079"/>
                </a:cubicBezTo>
                <a:cubicBezTo>
                  <a:pt x="18862" y="9182"/>
                  <a:pt x="18786" y="9236"/>
                  <a:pt x="18728" y="9302"/>
                </a:cubicBezTo>
                <a:cubicBezTo>
                  <a:pt x="18885" y="9293"/>
                  <a:pt x="19043" y="9354"/>
                  <a:pt x="18852" y="9525"/>
                </a:cubicBezTo>
                <a:cubicBezTo>
                  <a:pt x="18764" y="9604"/>
                  <a:pt x="18710" y="9572"/>
                  <a:pt x="18628" y="9525"/>
                </a:cubicBezTo>
              </a:path>
              <a:path w="894" h="572">
                <a:moveTo>
                  <a:pt x="19100" y="9079"/>
                </a:moveTo>
                <a:cubicBezTo>
                  <a:pt x="19231" y="9039"/>
                  <a:pt x="19351" y="9044"/>
                  <a:pt x="19397" y="9203"/>
                </a:cubicBezTo>
                <a:cubicBezTo>
                  <a:pt x="19448" y="9377"/>
                  <a:pt x="19270" y="9475"/>
                  <a:pt x="19124" y="9475"/>
                </a:cubicBezTo>
                <a:cubicBezTo>
                  <a:pt x="19076" y="9452"/>
                  <a:pt x="19060" y="9445"/>
                  <a:pt x="19075" y="9401"/>
                </a:cubicBezTo>
                <a:cubicBezTo>
                  <a:pt x="19106" y="9291"/>
                  <a:pt x="19267" y="9297"/>
                  <a:pt x="19372" y="9351"/>
                </a:cubicBezTo>
                <a:cubicBezTo>
                  <a:pt x="19435" y="9414"/>
                  <a:pt x="19452" y="9424"/>
                  <a:pt x="19472" y="94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05760" y="327672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20017" y="9103"/>
                </a:moveTo>
                <a:cubicBezTo>
                  <a:pt x="20046" y="9198"/>
                  <a:pt x="20075" y="9317"/>
                  <a:pt x="20117" y="9401"/>
                </a:cubicBezTo>
              </a:path>
              <a:path w="299" h="299">
                <a:moveTo>
                  <a:pt x="20017" y="9252"/>
                </a:moveTo>
                <a:cubicBezTo>
                  <a:pt x="20120" y="9239"/>
                  <a:pt x="20210" y="9227"/>
                  <a:pt x="20315" y="92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39040" y="3224160"/>
            <a:ext cx="98280" cy="177840"/>
          </a:xfrm>
          <a:custGeom>
            <a:avLst/>
            <a:gdLst/>
            <a:ahLst/>
            <a:rect l="l" t="t" r="r" b="b"/>
            <a:pathLst>
              <a:path w="274" h="498">
                <a:moveTo>
                  <a:pt x="20662" y="9054"/>
                </a:moveTo>
                <a:cubicBezTo>
                  <a:pt x="20685" y="9123"/>
                  <a:pt x="20687" y="9178"/>
                  <a:pt x="20687" y="9252"/>
                </a:cubicBezTo>
                <a:cubicBezTo>
                  <a:pt x="20776" y="9252"/>
                  <a:pt x="20850" y="9241"/>
                  <a:pt x="20935" y="9227"/>
                </a:cubicBezTo>
              </a:path>
              <a:path w="274" h="498">
                <a:moveTo>
                  <a:pt x="20910" y="8954"/>
                </a:moveTo>
                <a:cubicBezTo>
                  <a:pt x="20910" y="9116"/>
                  <a:pt x="20927" y="9267"/>
                  <a:pt x="20935" y="9426"/>
                </a:cubicBezTo>
                <a:cubicBezTo>
                  <a:pt x="20935" y="9434"/>
                  <a:pt x="20935" y="9443"/>
                  <a:pt x="20935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05800" y="3251160"/>
            <a:ext cx="152280" cy="15084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21406" y="9203"/>
                </a:moveTo>
                <a:cubicBezTo>
                  <a:pt x="21530" y="9166"/>
                  <a:pt x="21626" y="9185"/>
                  <a:pt x="21754" y="9203"/>
                </a:cubicBezTo>
                <a:cubicBezTo>
                  <a:pt x="21787" y="9203"/>
                  <a:pt x="21803" y="9203"/>
                  <a:pt x="21828" y="9203"/>
                </a:cubicBezTo>
              </a:path>
              <a:path w="423" h="423">
                <a:moveTo>
                  <a:pt x="21506" y="9029"/>
                </a:moveTo>
                <a:lnTo>
                  <a:pt x="21506" y="9029"/>
                </a:lnTo>
              </a:path>
              <a:path w="423" h="423">
                <a:moveTo>
                  <a:pt x="21654" y="9451"/>
                </a:moveTo>
                <a:lnTo>
                  <a:pt x="21654" y="945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45280" y="3178080"/>
            <a:ext cx="142920" cy="223920"/>
          </a:xfrm>
          <a:custGeom>
            <a:avLst/>
            <a:gdLst/>
            <a:ahLst/>
            <a:rect l="l" t="t" r="r" b="b"/>
            <a:pathLst>
              <a:path w="398" h="622">
                <a:moveTo>
                  <a:pt x="22399" y="8880"/>
                </a:moveTo>
                <a:cubicBezTo>
                  <a:pt x="22389" y="8958"/>
                  <a:pt x="22371" y="9028"/>
                  <a:pt x="22349" y="9103"/>
                </a:cubicBezTo>
                <a:cubicBezTo>
                  <a:pt x="22481" y="9130"/>
                  <a:pt x="22609" y="9128"/>
                  <a:pt x="22746" y="9128"/>
                </a:cubicBezTo>
              </a:path>
              <a:path w="398" h="622">
                <a:moveTo>
                  <a:pt x="22721" y="8830"/>
                </a:moveTo>
                <a:cubicBezTo>
                  <a:pt x="22691" y="9020"/>
                  <a:pt x="22696" y="9207"/>
                  <a:pt x="22696" y="9401"/>
                </a:cubicBezTo>
                <a:cubicBezTo>
                  <a:pt x="22696" y="9418"/>
                  <a:pt x="22696" y="9434"/>
                  <a:pt x="22696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9240" y="5180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11" y="14387"/>
                </a:moveTo>
                <a:lnTo>
                  <a:pt x="8111" y="1438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70840" y="331308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0191" y="9203"/>
                </a:moveTo>
                <a:cubicBezTo>
                  <a:pt x="20106" y="9287"/>
                  <a:pt x="20123" y="9270"/>
                  <a:pt x="20017" y="9252"/>
                </a:cubicBezTo>
                <a:cubicBezTo>
                  <a:pt x="19968" y="9252"/>
                  <a:pt x="19951" y="9252"/>
                  <a:pt x="19918" y="92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62880" y="3473280"/>
            <a:ext cx="635040" cy="135000"/>
          </a:xfrm>
          <a:custGeom>
            <a:avLst/>
            <a:gdLst/>
            <a:ahLst/>
            <a:rect l="l" t="t" r="r" b="b"/>
            <a:pathLst>
              <a:path w="1762" h="373">
                <a:moveTo>
                  <a:pt x="21059" y="9847"/>
                </a:moveTo>
                <a:cubicBezTo>
                  <a:pt x="20987" y="9740"/>
                  <a:pt x="21014" y="9834"/>
                  <a:pt x="21010" y="9947"/>
                </a:cubicBezTo>
                <a:cubicBezTo>
                  <a:pt x="21010" y="9972"/>
                  <a:pt x="21010" y="9996"/>
                  <a:pt x="21010" y="10021"/>
                </a:cubicBezTo>
                <a:cubicBezTo>
                  <a:pt x="21170" y="10003"/>
                  <a:pt x="21314" y="9973"/>
                  <a:pt x="21481" y="9971"/>
                </a:cubicBezTo>
                <a:cubicBezTo>
                  <a:pt x="21796" y="9967"/>
                  <a:pt x="22108" y="9947"/>
                  <a:pt x="22423" y="9947"/>
                </a:cubicBezTo>
                <a:cubicBezTo>
                  <a:pt x="22531" y="9947"/>
                  <a:pt x="22638" y="9947"/>
                  <a:pt x="22746" y="9947"/>
                </a:cubicBezTo>
                <a:cubicBezTo>
                  <a:pt x="22779" y="9839"/>
                  <a:pt x="22757" y="9761"/>
                  <a:pt x="22746" y="96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81920" y="3821040"/>
            <a:ext cx="892080" cy="839880"/>
          </a:xfrm>
          <a:custGeom>
            <a:avLst/>
            <a:gdLst/>
            <a:ahLst/>
            <a:rect l="l" t="t" r="r" b="b"/>
            <a:pathLst>
              <a:path w="2482" h="2333">
                <a:moveTo>
                  <a:pt x="19670" y="10765"/>
                </a:moveTo>
                <a:cubicBezTo>
                  <a:pt x="19748" y="10726"/>
                  <a:pt x="19929" y="10598"/>
                  <a:pt x="19943" y="10765"/>
                </a:cubicBezTo>
                <a:cubicBezTo>
                  <a:pt x="19954" y="10902"/>
                  <a:pt x="19773" y="10949"/>
                  <a:pt x="19720" y="10914"/>
                </a:cubicBezTo>
              </a:path>
              <a:path w="2482" h="2333">
                <a:moveTo>
                  <a:pt x="21754" y="10641"/>
                </a:moveTo>
                <a:cubicBezTo>
                  <a:pt x="21754" y="10775"/>
                  <a:pt x="21781" y="10855"/>
                  <a:pt x="21803" y="10988"/>
                </a:cubicBezTo>
                <a:cubicBezTo>
                  <a:pt x="21803" y="11030"/>
                  <a:pt x="21803" y="11038"/>
                  <a:pt x="21803" y="11063"/>
                </a:cubicBezTo>
              </a:path>
              <a:path w="2482" h="2333">
                <a:moveTo>
                  <a:pt x="19720" y="11013"/>
                </a:moveTo>
                <a:cubicBezTo>
                  <a:pt x="19783" y="10960"/>
                  <a:pt x="19897" y="10931"/>
                  <a:pt x="19993" y="10988"/>
                </a:cubicBezTo>
                <a:cubicBezTo>
                  <a:pt x="20136" y="11073"/>
                  <a:pt x="19972" y="11214"/>
                  <a:pt x="19893" y="11261"/>
                </a:cubicBezTo>
                <a:cubicBezTo>
                  <a:pt x="19825" y="11301"/>
                  <a:pt x="19745" y="11286"/>
                  <a:pt x="19670" y="11286"/>
                </a:cubicBezTo>
              </a:path>
              <a:path w="2482" h="2333">
                <a:moveTo>
                  <a:pt x="20389" y="10765"/>
                </a:moveTo>
                <a:cubicBezTo>
                  <a:pt x="20522" y="10765"/>
                  <a:pt x="20743" y="10834"/>
                  <a:pt x="20638" y="11038"/>
                </a:cubicBezTo>
                <a:cubicBezTo>
                  <a:pt x="20599" y="11114"/>
                  <a:pt x="20251" y="11303"/>
                  <a:pt x="20216" y="11137"/>
                </a:cubicBezTo>
                <a:cubicBezTo>
                  <a:pt x="20224" y="11112"/>
                  <a:pt x="20233" y="11088"/>
                  <a:pt x="20241" y="11063"/>
                </a:cubicBezTo>
                <a:cubicBezTo>
                  <a:pt x="20358" y="11021"/>
                  <a:pt x="20550" y="10952"/>
                  <a:pt x="20662" y="11063"/>
                </a:cubicBezTo>
                <a:cubicBezTo>
                  <a:pt x="20682" y="11123"/>
                  <a:pt x="20681" y="11138"/>
                  <a:pt x="20712" y="11162"/>
                </a:cubicBezTo>
              </a:path>
              <a:path w="2482" h="2333">
                <a:moveTo>
                  <a:pt x="21158" y="10790"/>
                </a:moveTo>
                <a:cubicBezTo>
                  <a:pt x="21131" y="10891"/>
                  <a:pt x="21142" y="10961"/>
                  <a:pt x="21158" y="11063"/>
                </a:cubicBezTo>
              </a:path>
              <a:path w="2482" h="2333">
                <a:moveTo>
                  <a:pt x="20985" y="10939"/>
                </a:moveTo>
                <a:cubicBezTo>
                  <a:pt x="21092" y="10939"/>
                  <a:pt x="21182" y="10927"/>
                  <a:pt x="21282" y="10914"/>
                </a:cubicBezTo>
              </a:path>
              <a:path w="2482" h="2333">
                <a:moveTo>
                  <a:pt x="20762" y="11361"/>
                </a:moveTo>
                <a:cubicBezTo>
                  <a:pt x="20762" y="11459"/>
                  <a:pt x="20739" y="11576"/>
                  <a:pt x="20786" y="11658"/>
                </a:cubicBezTo>
                <a:cubicBezTo>
                  <a:pt x="21071" y="11620"/>
                  <a:pt x="21366" y="11565"/>
                  <a:pt x="21654" y="11584"/>
                </a:cubicBezTo>
                <a:cubicBezTo>
                  <a:pt x="21755" y="11604"/>
                  <a:pt x="21775" y="11602"/>
                  <a:pt x="21828" y="11633"/>
                </a:cubicBezTo>
                <a:cubicBezTo>
                  <a:pt x="21778" y="11512"/>
                  <a:pt x="21761" y="11463"/>
                  <a:pt x="21779" y="11336"/>
                </a:cubicBezTo>
              </a:path>
              <a:path w="2482" h="2333">
                <a:moveTo>
                  <a:pt x="20762" y="12204"/>
                </a:moveTo>
                <a:cubicBezTo>
                  <a:pt x="20847" y="12204"/>
                  <a:pt x="21084" y="12198"/>
                  <a:pt x="21084" y="12353"/>
                </a:cubicBezTo>
                <a:cubicBezTo>
                  <a:pt x="21084" y="12463"/>
                  <a:pt x="20906" y="12500"/>
                  <a:pt x="20836" y="12526"/>
                </a:cubicBezTo>
                <a:cubicBezTo>
                  <a:pt x="20943" y="12468"/>
                  <a:pt x="20937" y="12469"/>
                  <a:pt x="21059" y="12477"/>
                </a:cubicBezTo>
                <a:cubicBezTo>
                  <a:pt x="21125" y="12608"/>
                  <a:pt x="20986" y="12671"/>
                  <a:pt x="20861" y="12700"/>
                </a:cubicBezTo>
                <a:cubicBezTo>
                  <a:pt x="20778" y="12700"/>
                  <a:pt x="20745" y="12716"/>
                  <a:pt x="20762" y="12650"/>
                </a:cubicBezTo>
              </a:path>
              <a:path w="2482" h="2333">
                <a:moveTo>
                  <a:pt x="21332" y="12204"/>
                </a:moveTo>
                <a:cubicBezTo>
                  <a:pt x="21428" y="12204"/>
                  <a:pt x="21539" y="12159"/>
                  <a:pt x="21555" y="12254"/>
                </a:cubicBezTo>
                <a:cubicBezTo>
                  <a:pt x="21489" y="12327"/>
                  <a:pt x="21448" y="12357"/>
                  <a:pt x="21357" y="12402"/>
                </a:cubicBezTo>
                <a:cubicBezTo>
                  <a:pt x="21437" y="12396"/>
                  <a:pt x="21675" y="12318"/>
                  <a:pt x="21630" y="12477"/>
                </a:cubicBezTo>
                <a:cubicBezTo>
                  <a:pt x="21597" y="12595"/>
                  <a:pt x="21440" y="12625"/>
                  <a:pt x="21357" y="12601"/>
                </a:cubicBezTo>
              </a:path>
              <a:path w="2482" h="2333">
                <a:moveTo>
                  <a:pt x="20489" y="12923"/>
                </a:moveTo>
                <a:cubicBezTo>
                  <a:pt x="20725" y="12923"/>
                  <a:pt x="20948" y="12955"/>
                  <a:pt x="21183" y="12923"/>
                </a:cubicBezTo>
                <a:cubicBezTo>
                  <a:pt x="21444" y="12888"/>
                  <a:pt x="21751" y="12870"/>
                  <a:pt x="21977" y="12725"/>
                </a:cubicBezTo>
                <a:cubicBezTo>
                  <a:pt x="22184" y="12592"/>
                  <a:pt x="22196" y="12406"/>
                  <a:pt x="22076" y="12204"/>
                </a:cubicBezTo>
                <a:cubicBezTo>
                  <a:pt x="21950" y="11991"/>
                  <a:pt x="21666" y="11884"/>
                  <a:pt x="21431" y="11857"/>
                </a:cubicBezTo>
                <a:cubicBezTo>
                  <a:pt x="21181" y="11828"/>
                  <a:pt x="20902" y="11892"/>
                  <a:pt x="20662" y="11956"/>
                </a:cubicBezTo>
                <a:cubicBezTo>
                  <a:pt x="20532" y="11991"/>
                  <a:pt x="20260" y="12087"/>
                  <a:pt x="20241" y="12254"/>
                </a:cubicBezTo>
                <a:cubicBezTo>
                  <a:pt x="20210" y="12525"/>
                  <a:pt x="20482" y="12641"/>
                  <a:pt x="20687" y="12700"/>
                </a:cubicBezTo>
                <a:cubicBezTo>
                  <a:pt x="20824" y="12740"/>
                  <a:pt x="20975" y="12765"/>
                  <a:pt x="21109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3840" y="3071880"/>
            <a:ext cx="457200" cy="142920"/>
          </a:xfrm>
          <a:custGeom>
            <a:avLst/>
            <a:gdLst/>
            <a:ahLst/>
            <a:rect l="l" t="t" r="r" b="b"/>
            <a:pathLst>
              <a:path w="1266" h="398">
                <a:moveTo>
                  <a:pt x="10120" y="8657"/>
                </a:moveTo>
                <a:cubicBezTo>
                  <a:pt x="10092" y="8752"/>
                  <a:pt x="10083" y="8841"/>
                  <a:pt x="10120" y="8930"/>
                </a:cubicBezTo>
                <a:cubicBezTo>
                  <a:pt x="10253" y="8885"/>
                  <a:pt x="10380" y="8836"/>
                  <a:pt x="10517" y="8806"/>
                </a:cubicBezTo>
                <a:cubicBezTo>
                  <a:pt x="10635" y="8780"/>
                  <a:pt x="10744" y="8781"/>
                  <a:pt x="10864" y="8781"/>
                </a:cubicBezTo>
                <a:cubicBezTo>
                  <a:pt x="10994" y="8781"/>
                  <a:pt x="11115" y="8789"/>
                  <a:pt x="11237" y="8806"/>
                </a:cubicBezTo>
                <a:cubicBezTo>
                  <a:pt x="11283" y="8812"/>
                  <a:pt x="11297" y="8808"/>
                  <a:pt x="11336" y="8830"/>
                </a:cubicBezTo>
                <a:cubicBezTo>
                  <a:pt x="11354" y="8724"/>
                  <a:pt x="11361" y="8639"/>
                  <a:pt x="11361" y="85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60840" y="3251160"/>
            <a:ext cx="17928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0443" y="9103"/>
                </a:moveTo>
                <a:cubicBezTo>
                  <a:pt x="10401" y="9103"/>
                  <a:pt x="10393" y="9103"/>
                  <a:pt x="10368" y="9103"/>
                </a:cubicBezTo>
                <a:cubicBezTo>
                  <a:pt x="10564" y="9000"/>
                  <a:pt x="10653" y="9088"/>
                  <a:pt x="10567" y="9327"/>
                </a:cubicBezTo>
                <a:cubicBezTo>
                  <a:pt x="10506" y="9497"/>
                  <a:pt x="10316" y="9611"/>
                  <a:pt x="10195" y="9475"/>
                </a:cubicBezTo>
                <a:cubicBezTo>
                  <a:pt x="10187" y="9459"/>
                  <a:pt x="10178" y="9442"/>
                  <a:pt x="10170" y="9426"/>
                </a:cubicBezTo>
                <a:cubicBezTo>
                  <a:pt x="10304" y="9336"/>
                  <a:pt x="10475" y="9251"/>
                  <a:pt x="10616" y="9401"/>
                </a:cubicBezTo>
                <a:cubicBezTo>
                  <a:pt x="10653" y="9474"/>
                  <a:pt x="10670" y="9479"/>
                  <a:pt x="10666" y="95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40120" y="3251160"/>
            <a:ext cx="142920" cy="20484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11063" y="9103"/>
                </a:moveTo>
                <a:cubicBezTo>
                  <a:pt x="10934" y="9004"/>
                  <a:pt x="10840" y="9035"/>
                  <a:pt x="10716" y="9153"/>
                </a:cubicBezTo>
                <a:cubicBezTo>
                  <a:pt x="10699" y="9178"/>
                  <a:pt x="10683" y="9202"/>
                  <a:pt x="10666" y="9227"/>
                </a:cubicBezTo>
                <a:cubicBezTo>
                  <a:pt x="10753" y="9352"/>
                  <a:pt x="10917" y="9327"/>
                  <a:pt x="11013" y="9475"/>
                </a:cubicBezTo>
                <a:cubicBezTo>
                  <a:pt x="11034" y="9560"/>
                  <a:pt x="11057" y="9586"/>
                  <a:pt x="10988" y="9599"/>
                </a:cubicBezTo>
                <a:cubicBezTo>
                  <a:pt x="10886" y="9454"/>
                  <a:pt x="10912" y="9370"/>
                  <a:pt x="10964" y="9203"/>
                </a:cubicBezTo>
                <a:cubicBezTo>
                  <a:pt x="10984" y="9142"/>
                  <a:pt x="10981" y="9127"/>
                  <a:pt x="11013" y="91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52960" y="334800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1534" y="9327"/>
                </a:moveTo>
                <a:cubicBezTo>
                  <a:pt x="11622" y="9310"/>
                  <a:pt x="11692" y="9302"/>
                  <a:pt x="11782" y="93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0160" y="3214800"/>
            <a:ext cx="15264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2278" y="8930"/>
                </a:moveTo>
                <a:cubicBezTo>
                  <a:pt x="12260" y="8940"/>
                  <a:pt x="12057" y="8998"/>
                  <a:pt x="12055" y="9004"/>
                </a:cubicBezTo>
                <a:cubicBezTo>
                  <a:pt x="12035" y="9074"/>
                  <a:pt x="12069" y="9138"/>
                  <a:pt x="12080" y="9203"/>
                </a:cubicBezTo>
                <a:cubicBezTo>
                  <a:pt x="12196" y="9191"/>
                  <a:pt x="12313" y="9126"/>
                  <a:pt x="12427" y="9178"/>
                </a:cubicBezTo>
                <a:cubicBezTo>
                  <a:pt x="12554" y="9236"/>
                  <a:pt x="12457" y="9372"/>
                  <a:pt x="12378" y="9401"/>
                </a:cubicBezTo>
                <a:cubicBezTo>
                  <a:pt x="12284" y="9435"/>
                  <a:pt x="12240" y="9430"/>
                  <a:pt x="12154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37080" y="3251160"/>
            <a:ext cx="115920" cy="7164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12601" y="9029"/>
                </a:moveTo>
                <a:cubicBezTo>
                  <a:pt x="12724" y="9082"/>
                  <a:pt x="12814" y="9155"/>
                  <a:pt x="12923" y="92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99000" y="3214800"/>
            <a:ext cx="619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2948" y="8930"/>
                </a:moveTo>
                <a:cubicBezTo>
                  <a:pt x="12887" y="9064"/>
                  <a:pt x="12822" y="9190"/>
                  <a:pt x="12774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49840" y="3187800"/>
            <a:ext cx="1350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3196" y="8954"/>
                </a:moveTo>
                <a:cubicBezTo>
                  <a:pt x="13235" y="8909"/>
                  <a:pt x="13326" y="8816"/>
                  <a:pt x="13395" y="8880"/>
                </a:cubicBezTo>
                <a:cubicBezTo>
                  <a:pt x="13482" y="8961"/>
                  <a:pt x="13420" y="9032"/>
                  <a:pt x="13370" y="9103"/>
                </a:cubicBezTo>
                <a:cubicBezTo>
                  <a:pt x="13310" y="9188"/>
                  <a:pt x="13240" y="9288"/>
                  <a:pt x="13196" y="9376"/>
                </a:cubicBezTo>
                <a:cubicBezTo>
                  <a:pt x="13196" y="9384"/>
                  <a:pt x="13196" y="9393"/>
                  <a:pt x="13196" y="9401"/>
                </a:cubicBezTo>
                <a:cubicBezTo>
                  <a:pt x="13300" y="9259"/>
                  <a:pt x="13283" y="9283"/>
                  <a:pt x="13419" y="9351"/>
                </a:cubicBezTo>
                <a:cubicBezTo>
                  <a:pt x="13492" y="9375"/>
                  <a:pt x="13516" y="9384"/>
                  <a:pt x="13568" y="93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73720" y="3446640"/>
            <a:ext cx="268200" cy="53640"/>
          </a:xfrm>
          <a:custGeom>
            <a:avLst/>
            <a:gdLst/>
            <a:ahLst/>
            <a:rect l="l" t="t" r="r" b="b"/>
            <a:pathLst>
              <a:path w="745" h="149">
                <a:moveTo>
                  <a:pt x="12502" y="9575"/>
                </a:moveTo>
                <a:cubicBezTo>
                  <a:pt x="12447" y="9602"/>
                  <a:pt x="12438" y="9656"/>
                  <a:pt x="12427" y="9723"/>
                </a:cubicBezTo>
                <a:cubicBezTo>
                  <a:pt x="12531" y="9723"/>
                  <a:pt x="12622" y="9702"/>
                  <a:pt x="12725" y="9699"/>
                </a:cubicBezTo>
                <a:cubicBezTo>
                  <a:pt x="12799" y="9697"/>
                  <a:pt x="12910" y="9730"/>
                  <a:pt x="12973" y="9723"/>
                </a:cubicBezTo>
                <a:cubicBezTo>
                  <a:pt x="13027" y="9717"/>
                  <a:pt x="13079" y="9757"/>
                  <a:pt x="13122" y="9723"/>
                </a:cubicBezTo>
                <a:cubicBezTo>
                  <a:pt x="13182" y="9675"/>
                  <a:pt x="13171" y="9636"/>
                  <a:pt x="13171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10080" y="3589200"/>
            <a:ext cx="1440" cy="135000"/>
          </a:xfrm>
          <a:custGeom>
            <a:avLst/>
            <a:gdLst/>
            <a:ahLst/>
            <a:rect l="l" t="t" r="r" b="b"/>
            <a:pathLst>
              <a:path w="1" h="374">
                <a:moveTo>
                  <a:pt x="12526" y="9971"/>
                </a:moveTo>
                <a:cubicBezTo>
                  <a:pt x="12526" y="10095"/>
                  <a:pt x="12526" y="10220"/>
                  <a:pt x="12526" y="103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81360" y="358128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2849" y="9996"/>
                </a:moveTo>
                <a:cubicBezTo>
                  <a:pt x="12764" y="10149"/>
                  <a:pt x="12731" y="10167"/>
                  <a:pt x="12774" y="10319"/>
                </a:cubicBezTo>
                <a:cubicBezTo>
                  <a:pt x="12929" y="10341"/>
                  <a:pt x="13096" y="10321"/>
                  <a:pt x="13122" y="10120"/>
                </a:cubicBezTo>
                <a:cubicBezTo>
                  <a:pt x="13142" y="9970"/>
                  <a:pt x="12974" y="9957"/>
                  <a:pt x="12874" y="99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30760" y="361620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0641" y="10096"/>
                </a:moveTo>
                <a:cubicBezTo>
                  <a:pt x="10744" y="10066"/>
                  <a:pt x="10891" y="9970"/>
                  <a:pt x="10964" y="10120"/>
                </a:cubicBezTo>
                <a:cubicBezTo>
                  <a:pt x="11034" y="10265"/>
                  <a:pt x="10921" y="10492"/>
                  <a:pt x="10740" y="10468"/>
                </a:cubicBezTo>
                <a:cubicBezTo>
                  <a:pt x="10715" y="10451"/>
                  <a:pt x="10691" y="10435"/>
                  <a:pt x="10666" y="10418"/>
                </a:cubicBezTo>
                <a:cubicBezTo>
                  <a:pt x="10720" y="10269"/>
                  <a:pt x="10812" y="10266"/>
                  <a:pt x="10964" y="10344"/>
                </a:cubicBezTo>
                <a:cubicBezTo>
                  <a:pt x="11020" y="10381"/>
                  <a:pt x="11045" y="10376"/>
                  <a:pt x="11038" y="104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17960" y="36338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1336" y="10096"/>
                </a:moveTo>
                <a:cubicBezTo>
                  <a:pt x="11236" y="10112"/>
                  <a:pt x="11225" y="10148"/>
                  <a:pt x="11162" y="10220"/>
                </a:cubicBezTo>
                <a:cubicBezTo>
                  <a:pt x="11275" y="10286"/>
                  <a:pt x="11417" y="10304"/>
                  <a:pt x="11460" y="10418"/>
                </a:cubicBezTo>
                <a:cubicBezTo>
                  <a:pt x="11365" y="10445"/>
                  <a:pt x="11346" y="10373"/>
                  <a:pt x="11361" y="10269"/>
                </a:cubicBezTo>
                <a:cubicBezTo>
                  <a:pt x="11369" y="10212"/>
                  <a:pt x="11385" y="10197"/>
                  <a:pt x="11385" y="101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3697200"/>
            <a:ext cx="8892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1733" y="10269"/>
                </a:moveTo>
                <a:cubicBezTo>
                  <a:pt x="11816" y="10269"/>
                  <a:pt x="11898" y="10269"/>
                  <a:pt x="11981" y="102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79960" y="3776760"/>
            <a:ext cx="330120" cy="117360"/>
          </a:xfrm>
          <a:custGeom>
            <a:avLst/>
            <a:gdLst/>
            <a:ahLst/>
            <a:rect l="l" t="t" r="r" b="b"/>
            <a:pathLst>
              <a:path w="918" h="324">
                <a:moveTo>
                  <a:pt x="11609" y="10641"/>
                </a:moveTo>
                <a:cubicBezTo>
                  <a:pt x="11609" y="10514"/>
                  <a:pt x="11609" y="10778"/>
                  <a:pt x="11609" y="10815"/>
                </a:cubicBezTo>
                <a:cubicBezTo>
                  <a:pt x="11778" y="10790"/>
                  <a:pt x="11904" y="10746"/>
                  <a:pt x="12080" y="10740"/>
                </a:cubicBezTo>
                <a:cubicBezTo>
                  <a:pt x="12207" y="10736"/>
                  <a:pt x="12459" y="10807"/>
                  <a:pt x="12502" y="10666"/>
                </a:cubicBezTo>
                <a:cubicBezTo>
                  <a:pt x="12524" y="10576"/>
                  <a:pt x="12532" y="10552"/>
                  <a:pt x="12526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8880" y="3983040"/>
            <a:ext cx="9360" cy="177840"/>
          </a:xfrm>
          <a:custGeom>
            <a:avLst/>
            <a:gdLst/>
            <a:ahLst/>
            <a:rect l="l" t="t" r="r" b="b"/>
            <a:pathLst>
              <a:path w="25" h="497">
                <a:moveTo>
                  <a:pt x="11857" y="11063"/>
                </a:moveTo>
                <a:cubicBezTo>
                  <a:pt x="11873" y="11231"/>
                  <a:pt x="11881" y="11390"/>
                  <a:pt x="11881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7800" y="3983040"/>
            <a:ext cx="10800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2402" y="11063"/>
                </a:moveTo>
                <a:cubicBezTo>
                  <a:pt x="12299" y="11063"/>
                  <a:pt x="12203" y="11052"/>
                  <a:pt x="12129" y="11137"/>
                </a:cubicBezTo>
                <a:cubicBezTo>
                  <a:pt x="12121" y="11154"/>
                  <a:pt x="12113" y="11170"/>
                  <a:pt x="12105" y="11187"/>
                </a:cubicBezTo>
                <a:cubicBezTo>
                  <a:pt x="12221" y="11283"/>
                  <a:pt x="12385" y="11319"/>
                  <a:pt x="12378" y="11485"/>
                </a:cubicBezTo>
                <a:cubicBezTo>
                  <a:pt x="12354" y="11533"/>
                  <a:pt x="12347" y="11549"/>
                  <a:pt x="12303" y="11534"/>
                </a:cubicBezTo>
                <a:cubicBezTo>
                  <a:pt x="12239" y="11383"/>
                  <a:pt x="12245" y="11288"/>
                  <a:pt x="12328" y="11137"/>
                </a:cubicBezTo>
                <a:cubicBezTo>
                  <a:pt x="12345" y="11112"/>
                  <a:pt x="12361" y="11088"/>
                  <a:pt x="12378" y="110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33880" y="3857760"/>
            <a:ext cx="546120" cy="393480"/>
          </a:xfrm>
          <a:custGeom>
            <a:avLst/>
            <a:gdLst/>
            <a:ahLst/>
            <a:rect l="l" t="t" r="r" b="b"/>
            <a:pathLst>
              <a:path w="1514" h="1092">
                <a:moveTo>
                  <a:pt x="11807" y="11609"/>
                </a:moveTo>
                <a:cubicBezTo>
                  <a:pt x="12085" y="11777"/>
                  <a:pt x="12260" y="11806"/>
                  <a:pt x="12576" y="11708"/>
                </a:cubicBezTo>
                <a:cubicBezTo>
                  <a:pt x="12824" y="11631"/>
                  <a:pt x="12950" y="11495"/>
                  <a:pt x="12998" y="11237"/>
                </a:cubicBezTo>
                <a:cubicBezTo>
                  <a:pt x="13027" y="11081"/>
                  <a:pt x="12901" y="10898"/>
                  <a:pt x="12774" y="10815"/>
                </a:cubicBezTo>
                <a:cubicBezTo>
                  <a:pt x="12638" y="10727"/>
                  <a:pt x="12461" y="10698"/>
                  <a:pt x="12303" y="10716"/>
                </a:cubicBezTo>
                <a:cubicBezTo>
                  <a:pt x="12133" y="10736"/>
                  <a:pt x="11960" y="10816"/>
                  <a:pt x="11807" y="10889"/>
                </a:cubicBezTo>
                <a:cubicBezTo>
                  <a:pt x="11699" y="10940"/>
                  <a:pt x="11613" y="10996"/>
                  <a:pt x="11534" y="11088"/>
                </a:cubicBezTo>
                <a:cubicBezTo>
                  <a:pt x="11430" y="11209"/>
                  <a:pt x="11496" y="11356"/>
                  <a:pt x="11534" y="11485"/>
                </a:cubicBezTo>
                <a:cubicBezTo>
                  <a:pt x="11578" y="11634"/>
                  <a:pt x="11652" y="11732"/>
                  <a:pt x="11807" y="11782"/>
                </a:cubicBezTo>
                <a:cubicBezTo>
                  <a:pt x="11954" y="11830"/>
                  <a:pt x="12179" y="11796"/>
                  <a:pt x="12328" y="11757"/>
                </a:cubicBezTo>
                <a:cubicBezTo>
                  <a:pt x="12376" y="11734"/>
                  <a:pt x="12391" y="11726"/>
                  <a:pt x="12427" y="117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5232240"/>
            <a:ext cx="411120" cy="152640"/>
          </a:xfrm>
          <a:custGeom>
            <a:avLst/>
            <a:gdLst/>
            <a:ahLst/>
            <a:rect l="l" t="t" r="r" b="b"/>
            <a:pathLst>
              <a:path w="1142" h="422">
                <a:moveTo>
                  <a:pt x="3175" y="14784"/>
                </a:moveTo>
                <a:cubicBezTo>
                  <a:pt x="3229" y="14864"/>
                  <a:pt x="3249" y="14895"/>
                  <a:pt x="3274" y="14957"/>
                </a:cubicBezTo>
                <a:cubicBezTo>
                  <a:pt x="3476" y="14900"/>
                  <a:pt x="3684" y="14850"/>
                  <a:pt x="3894" y="14833"/>
                </a:cubicBezTo>
                <a:cubicBezTo>
                  <a:pt x="3920" y="14831"/>
                  <a:pt x="4276" y="14871"/>
                  <a:pt x="4291" y="14808"/>
                </a:cubicBezTo>
                <a:cubicBezTo>
                  <a:pt x="4312" y="14660"/>
                  <a:pt x="4321" y="14628"/>
                  <a:pt x="4316" y="145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1000" y="5500800"/>
            <a:ext cx="1728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3522" y="15280"/>
                </a:moveTo>
                <a:cubicBezTo>
                  <a:pt x="3517" y="15463"/>
                  <a:pt x="3508" y="15622"/>
                  <a:pt x="3473" y="158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57200" y="553716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3795" y="15379"/>
                </a:moveTo>
                <a:cubicBezTo>
                  <a:pt x="3784" y="15581"/>
                  <a:pt x="3757" y="15683"/>
                  <a:pt x="3870" y="15850"/>
                </a:cubicBezTo>
                <a:cubicBezTo>
                  <a:pt x="4013" y="15825"/>
                  <a:pt x="4228" y="15769"/>
                  <a:pt x="4093" y="15577"/>
                </a:cubicBezTo>
                <a:cubicBezTo>
                  <a:pt x="3989" y="15473"/>
                  <a:pt x="3972" y="15448"/>
                  <a:pt x="3894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44760" y="550080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4341" y="15280"/>
                </a:moveTo>
                <a:cubicBezTo>
                  <a:pt x="4282" y="15454"/>
                  <a:pt x="4285" y="15558"/>
                  <a:pt x="4341" y="15726"/>
                </a:cubicBezTo>
                <a:cubicBezTo>
                  <a:pt x="4500" y="15737"/>
                  <a:pt x="4619" y="15684"/>
                  <a:pt x="4539" y="15478"/>
                </a:cubicBezTo>
                <a:cubicBezTo>
                  <a:pt x="4487" y="15344"/>
                  <a:pt x="4405" y="15362"/>
                  <a:pt x="4291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51040" y="5527800"/>
            <a:ext cx="349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4862" y="15354"/>
                </a:moveTo>
                <a:cubicBezTo>
                  <a:pt x="4910" y="15378"/>
                  <a:pt x="4924" y="15387"/>
                  <a:pt x="4961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19160" y="5510160"/>
            <a:ext cx="36720" cy="14292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5333" y="15304"/>
                </a:moveTo>
                <a:cubicBezTo>
                  <a:pt x="5362" y="15436"/>
                  <a:pt x="5374" y="15586"/>
                  <a:pt x="5432" y="157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27160" y="5464080"/>
            <a:ext cx="187560" cy="1717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5631" y="15280"/>
                </a:moveTo>
                <a:cubicBezTo>
                  <a:pt x="5675" y="15244"/>
                  <a:pt x="5874" y="15090"/>
                  <a:pt x="5879" y="15255"/>
                </a:cubicBezTo>
                <a:cubicBezTo>
                  <a:pt x="5883" y="15383"/>
                  <a:pt x="5805" y="15514"/>
                  <a:pt x="5755" y="15627"/>
                </a:cubicBezTo>
                <a:cubicBezTo>
                  <a:pt x="5882" y="15646"/>
                  <a:pt x="5999" y="15652"/>
                  <a:pt x="6127" y="15652"/>
                </a:cubicBezTo>
                <a:cubicBezTo>
                  <a:pt x="6135" y="15652"/>
                  <a:pt x="6144" y="15652"/>
                  <a:pt x="6152" y="156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25760" y="5848200"/>
            <a:ext cx="133200" cy="216000"/>
          </a:xfrm>
          <a:custGeom>
            <a:avLst/>
            <a:gdLst/>
            <a:ahLst/>
            <a:rect l="l" t="t" r="r" b="b"/>
            <a:pathLst>
              <a:path w="374" h="596">
                <a:moveTo>
                  <a:pt x="4812" y="16272"/>
                </a:moveTo>
                <a:cubicBezTo>
                  <a:pt x="4688" y="16262"/>
                  <a:pt x="4637" y="16305"/>
                  <a:pt x="4539" y="16396"/>
                </a:cubicBezTo>
                <a:cubicBezTo>
                  <a:pt x="4444" y="16484"/>
                  <a:pt x="4597" y="16593"/>
                  <a:pt x="4663" y="16619"/>
                </a:cubicBezTo>
                <a:cubicBezTo>
                  <a:pt x="4770" y="16661"/>
                  <a:pt x="4919" y="16629"/>
                  <a:pt x="4887" y="16793"/>
                </a:cubicBezTo>
                <a:cubicBezTo>
                  <a:pt x="4863" y="16841"/>
                  <a:pt x="4856" y="16857"/>
                  <a:pt x="4812" y="16842"/>
                </a:cubicBezTo>
                <a:cubicBezTo>
                  <a:pt x="4704" y="16721"/>
                  <a:pt x="4758" y="16628"/>
                  <a:pt x="4787" y="16470"/>
                </a:cubicBezTo>
                <a:cubicBezTo>
                  <a:pt x="4787" y="16462"/>
                  <a:pt x="4787" y="16454"/>
                  <a:pt x="4787" y="164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5320" y="5884920"/>
            <a:ext cx="115920" cy="15228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5184" y="16371"/>
                </a:moveTo>
                <a:cubicBezTo>
                  <a:pt x="5092" y="16325"/>
                  <a:pt x="5049" y="16347"/>
                  <a:pt x="4986" y="16421"/>
                </a:cubicBezTo>
                <a:cubicBezTo>
                  <a:pt x="5006" y="16562"/>
                  <a:pt x="5132" y="16510"/>
                  <a:pt x="5234" y="16570"/>
                </a:cubicBezTo>
                <a:cubicBezTo>
                  <a:pt x="5301" y="16637"/>
                  <a:pt x="5325" y="16651"/>
                  <a:pt x="5308" y="16718"/>
                </a:cubicBezTo>
                <a:cubicBezTo>
                  <a:pt x="5266" y="16769"/>
                  <a:pt x="5196" y="16814"/>
                  <a:pt x="5159" y="16718"/>
                </a:cubicBezTo>
                <a:cubicBezTo>
                  <a:pt x="5116" y="16604"/>
                  <a:pt x="5140" y="16509"/>
                  <a:pt x="5159" y="163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54120" y="5786280"/>
            <a:ext cx="527040" cy="393840"/>
          </a:xfrm>
          <a:custGeom>
            <a:avLst/>
            <a:gdLst/>
            <a:ahLst/>
            <a:rect l="l" t="t" r="r" b="b"/>
            <a:pathLst>
              <a:path w="1464" h="1093">
                <a:moveTo>
                  <a:pt x="4787" y="16991"/>
                </a:moveTo>
                <a:cubicBezTo>
                  <a:pt x="4810" y="17072"/>
                  <a:pt x="4890" y="17117"/>
                  <a:pt x="4986" y="17140"/>
                </a:cubicBezTo>
                <a:cubicBezTo>
                  <a:pt x="5184" y="17187"/>
                  <a:pt x="5364" y="17128"/>
                  <a:pt x="5531" y="17016"/>
                </a:cubicBezTo>
                <a:cubicBezTo>
                  <a:pt x="5685" y="16913"/>
                  <a:pt x="5800" y="16788"/>
                  <a:pt x="5779" y="16594"/>
                </a:cubicBezTo>
                <a:cubicBezTo>
                  <a:pt x="5763" y="16448"/>
                  <a:pt x="5642" y="16240"/>
                  <a:pt x="5507" y="16173"/>
                </a:cubicBezTo>
                <a:cubicBezTo>
                  <a:pt x="5397" y="16118"/>
                  <a:pt x="5252" y="16119"/>
                  <a:pt x="5135" y="16098"/>
                </a:cubicBezTo>
                <a:cubicBezTo>
                  <a:pt x="5027" y="16078"/>
                  <a:pt x="4967" y="16074"/>
                  <a:pt x="4862" y="16098"/>
                </a:cubicBezTo>
                <a:cubicBezTo>
                  <a:pt x="4750" y="16124"/>
                  <a:pt x="4614" y="16190"/>
                  <a:pt x="4514" y="16247"/>
                </a:cubicBezTo>
                <a:cubicBezTo>
                  <a:pt x="4466" y="16274"/>
                  <a:pt x="4340" y="16336"/>
                  <a:pt x="4316" y="16396"/>
                </a:cubicBezTo>
                <a:cubicBezTo>
                  <a:pt x="4291" y="16461"/>
                  <a:pt x="4309" y="16610"/>
                  <a:pt x="4341" y="16669"/>
                </a:cubicBezTo>
                <a:cubicBezTo>
                  <a:pt x="4409" y="16795"/>
                  <a:pt x="4491" y="16850"/>
                  <a:pt x="4614" y="16917"/>
                </a:cubicBezTo>
                <a:cubicBezTo>
                  <a:pt x="4682" y="16954"/>
                  <a:pt x="4815" y="17001"/>
                  <a:pt x="4887" y="17016"/>
                </a:cubicBezTo>
                <a:cubicBezTo>
                  <a:pt x="4920" y="17023"/>
                  <a:pt x="4974" y="17016"/>
                  <a:pt x="5011" y="170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295960"/>
            <a:ext cx="419040" cy="106200"/>
          </a:xfrm>
          <a:custGeom>
            <a:avLst/>
            <a:gdLst/>
            <a:ahLst/>
            <a:rect l="l" t="t" r="r" b="b"/>
            <a:pathLst>
              <a:path w="1166" h="299">
                <a:moveTo>
                  <a:pt x="16966" y="14709"/>
                </a:moveTo>
                <a:cubicBezTo>
                  <a:pt x="16943" y="14733"/>
                  <a:pt x="16924" y="14825"/>
                  <a:pt x="16942" y="14883"/>
                </a:cubicBezTo>
                <a:cubicBezTo>
                  <a:pt x="16957" y="14933"/>
                  <a:pt x="16966" y="14954"/>
                  <a:pt x="16966" y="15007"/>
                </a:cubicBezTo>
                <a:cubicBezTo>
                  <a:pt x="17097" y="15007"/>
                  <a:pt x="17210" y="14971"/>
                  <a:pt x="17338" y="14957"/>
                </a:cubicBezTo>
                <a:cubicBezTo>
                  <a:pt x="17462" y="14944"/>
                  <a:pt x="17586" y="14918"/>
                  <a:pt x="17711" y="14908"/>
                </a:cubicBezTo>
                <a:cubicBezTo>
                  <a:pt x="17841" y="14898"/>
                  <a:pt x="17976" y="14908"/>
                  <a:pt x="18107" y="14908"/>
                </a:cubicBezTo>
                <a:cubicBezTo>
                  <a:pt x="18107" y="14858"/>
                  <a:pt x="18107" y="14809"/>
                  <a:pt x="18107" y="147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59680" y="5464080"/>
            <a:ext cx="196560" cy="216000"/>
          </a:xfrm>
          <a:custGeom>
            <a:avLst/>
            <a:gdLst/>
            <a:ahLst/>
            <a:rect l="l" t="t" r="r" b="b"/>
            <a:pathLst>
              <a:path w="547" h="597">
                <a:moveTo>
                  <a:pt x="17438" y="15180"/>
                </a:moveTo>
                <a:cubicBezTo>
                  <a:pt x="17429" y="15343"/>
                  <a:pt x="17369" y="15515"/>
                  <a:pt x="17388" y="15677"/>
                </a:cubicBezTo>
                <a:cubicBezTo>
                  <a:pt x="17409" y="15858"/>
                  <a:pt x="17658" y="15766"/>
                  <a:pt x="17760" y="15726"/>
                </a:cubicBezTo>
                <a:cubicBezTo>
                  <a:pt x="17885" y="15677"/>
                  <a:pt x="17934" y="15632"/>
                  <a:pt x="17934" y="15503"/>
                </a:cubicBezTo>
                <a:cubicBezTo>
                  <a:pt x="17793" y="15471"/>
                  <a:pt x="17751" y="15559"/>
                  <a:pt x="17711" y="15701"/>
                </a:cubicBezTo>
                <a:cubicBezTo>
                  <a:pt x="17711" y="15718"/>
                  <a:pt x="17711" y="15734"/>
                  <a:pt x="17711" y="157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89800" y="5500800"/>
            <a:ext cx="460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18306" y="15280"/>
                </a:moveTo>
                <a:cubicBezTo>
                  <a:pt x="18381" y="15416"/>
                  <a:pt x="18410" y="15518"/>
                  <a:pt x="18430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72160" y="5562720"/>
            <a:ext cx="162000" cy="28440"/>
          </a:xfrm>
          <a:custGeom>
            <a:avLst/>
            <a:gdLst/>
            <a:ahLst/>
            <a:rect l="l" t="t" r="r" b="b"/>
            <a:pathLst>
              <a:path w="448" h="76">
                <a:moveTo>
                  <a:pt x="18256" y="15528"/>
                </a:moveTo>
                <a:cubicBezTo>
                  <a:pt x="18424" y="15521"/>
                  <a:pt x="18542" y="15500"/>
                  <a:pt x="18703" y="154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96080" y="5464080"/>
            <a:ext cx="115920" cy="18900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18876" y="15230"/>
                </a:moveTo>
                <a:cubicBezTo>
                  <a:pt x="18926" y="15207"/>
                  <a:pt x="19124" y="15111"/>
                  <a:pt x="19124" y="15255"/>
                </a:cubicBezTo>
                <a:cubicBezTo>
                  <a:pt x="19098" y="15361"/>
                  <a:pt x="19084" y="15399"/>
                  <a:pt x="19000" y="15429"/>
                </a:cubicBezTo>
                <a:cubicBezTo>
                  <a:pt x="19129" y="15420"/>
                  <a:pt x="19121" y="15398"/>
                  <a:pt x="19199" y="15503"/>
                </a:cubicBezTo>
                <a:cubicBezTo>
                  <a:pt x="19113" y="15602"/>
                  <a:pt x="19069" y="15647"/>
                  <a:pt x="18951" y="157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56280" y="5500800"/>
            <a:ext cx="9864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9323" y="15280"/>
                </a:moveTo>
                <a:cubicBezTo>
                  <a:pt x="19412" y="15380"/>
                  <a:pt x="19497" y="15463"/>
                  <a:pt x="19596" y="155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73920" y="5473800"/>
            <a:ext cx="81000" cy="152280"/>
          </a:xfrm>
          <a:custGeom>
            <a:avLst/>
            <a:gdLst/>
            <a:ahLst/>
            <a:rect l="l" t="t" r="r" b="b"/>
            <a:pathLst>
              <a:path w="225" h="423">
                <a:moveTo>
                  <a:pt x="19596" y="15205"/>
                </a:moveTo>
                <a:cubicBezTo>
                  <a:pt x="19512" y="15341"/>
                  <a:pt x="19472" y="15494"/>
                  <a:pt x="19372" y="156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1120" y="5429160"/>
            <a:ext cx="152640" cy="214560"/>
          </a:xfrm>
          <a:custGeom>
            <a:avLst/>
            <a:gdLst/>
            <a:ahLst/>
            <a:rect l="l" t="t" r="r" b="b"/>
            <a:pathLst>
              <a:path w="423" h="597">
                <a:moveTo>
                  <a:pt x="19918" y="15081"/>
                </a:moveTo>
                <a:cubicBezTo>
                  <a:pt x="19918" y="15196"/>
                  <a:pt x="19880" y="15318"/>
                  <a:pt x="19893" y="15429"/>
                </a:cubicBezTo>
                <a:cubicBezTo>
                  <a:pt x="19906" y="15537"/>
                  <a:pt x="19953" y="15630"/>
                  <a:pt x="20067" y="15652"/>
                </a:cubicBezTo>
                <a:cubicBezTo>
                  <a:pt x="20198" y="15678"/>
                  <a:pt x="20276" y="15589"/>
                  <a:pt x="20315" y="15478"/>
                </a:cubicBezTo>
                <a:cubicBezTo>
                  <a:pt x="20315" y="15470"/>
                  <a:pt x="20315" y="15461"/>
                  <a:pt x="20315" y="15453"/>
                </a:cubicBezTo>
                <a:cubicBezTo>
                  <a:pt x="20192" y="15393"/>
                  <a:pt x="20119" y="15420"/>
                  <a:pt x="20092" y="15577"/>
                </a:cubicBezTo>
                <a:cubicBezTo>
                  <a:pt x="20092" y="15635"/>
                  <a:pt x="20092" y="15644"/>
                  <a:pt x="20092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19920" y="5697360"/>
            <a:ext cx="304920" cy="98640"/>
          </a:xfrm>
          <a:custGeom>
            <a:avLst/>
            <a:gdLst/>
            <a:ahLst/>
            <a:rect l="l" t="t" r="r" b="b"/>
            <a:pathLst>
              <a:path w="844" h="274">
                <a:moveTo>
                  <a:pt x="19224" y="15925"/>
                </a:moveTo>
                <a:cubicBezTo>
                  <a:pt x="19263" y="16023"/>
                  <a:pt x="19279" y="16036"/>
                  <a:pt x="19273" y="16098"/>
                </a:cubicBezTo>
                <a:cubicBezTo>
                  <a:pt x="19476" y="16020"/>
                  <a:pt x="19696" y="15979"/>
                  <a:pt x="19918" y="15999"/>
                </a:cubicBezTo>
                <a:cubicBezTo>
                  <a:pt x="19968" y="16004"/>
                  <a:pt x="20028" y="16025"/>
                  <a:pt x="20067" y="16049"/>
                </a:cubicBezTo>
                <a:cubicBezTo>
                  <a:pt x="20058" y="15972"/>
                  <a:pt x="20038" y="15902"/>
                  <a:pt x="20017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0280" y="5919840"/>
            <a:ext cx="44640" cy="162000"/>
          </a:xfrm>
          <a:custGeom>
            <a:avLst/>
            <a:gdLst/>
            <a:ahLst/>
            <a:rect l="l" t="t" r="r" b="b"/>
            <a:pathLst>
              <a:path w="125" h="447">
                <a:moveTo>
                  <a:pt x="19472" y="16446"/>
                </a:moveTo>
                <a:cubicBezTo>
                  <a:pt x="19511" y="16595"/>
                  <a:pt x="19569" y="16744"/>
                  <a:pt x="19596" y="168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16840" y="58752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9993" y="16321"/>
                </a:moveTo>
                <a:cubicBezTo>
                  <a:pt x="19899" y="16402"/>
                  <a:pt x="19840" y="16467"/>
                  <a:pt x="19769" y="16570"/>
                </a:cubicBezTo>
                <a:cubicBezTo>
                  <a:pt x="19846" y="16608"/>
                  <a:pt x="20052" y="16654"/>
                  <a:pt x="20067" y="16743"/>
                </a:cubicBezTo>
                <a:cubicBezTo>
                  <a:pt x="20059" y="16760"/>
                  <a:pt x="20050" y="16776"/>
                  <a:pt x="20042" y="16793"/>
                </a:cubicBezTo>
                <a:cubicBezTo>
                  <a:pt x="19849" y="16857"/>
                  <a:pt x="19867" y="16715"/>
                  <a:pt x="19943" y="16545"/>
                </a:cubicBezTo>
                <a:cubicBezTo>
                  <a:pt x="20001" y="16448"/>
                  <a:pt x="20026" y="16438"/>
                  <a:pt x="20017" y="163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56240" y="594684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7934" y="16520"/>
                </a:moveTo>
                <a:cubicBezTo>
                  <a:pt x="17934" y="16662"/>
                  <a:pt x="17870" y="16978"/>
                  <a:pt x="17983" y="17090"/>
                </a:cubicBezTo>
                <a:cubicBezTo>
                  <a:pt x="18119" y="17225"/>
                  <a:pt x="18373" y="16989"/>
                  <a:pt x="18405" y="16867"/>
                </a:cubicBezTo>
                <a:cubicBezTo>
                  <a:pt x="18397" y="16842"/>
                  <a:pt x="18388" y="16818"/>
                  <a:pt x="18380" y="16793"/>
                </a:cubicBezTo>
                <a:cubicBezTo>
                  <a:pt x="18250" y="16749"/>
                  <a:pt x="18149" y="16804"/>
                  <a:pt x="18132" y="16966"/>
                </a:cubicBezTo>
                <a:cubicBezTo>
                  <a:pt x="18154" y="17055"/>
                  <a:pt x="18155" y="17081"/>
                  <a:pt x="18207" y="171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59720" y="5965920"/>
            <a:ext cx="27000" cy="125280"/>
          </a:xfrm>
          <a:custGeom>
            <a:avLst/>
            <a:gdLst/>
            <a:ahLst/>
            <a:rect l="l" t="t" r="r" b="b"/>
            <a:pathLst>
              <a:path w="76" h="348">
                <a:moveTo>
                  <a:pt x="18777" y="16570"/>
                </a:moveTo>
                <a:cubicBezTo>
                  <a:pt x="18804" y="16685"/>
                  <a:pt x="18835" y="16801"/>
                  <a:pt x="18852" y="169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5080" y="601812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8653" y="16768"/>
                </a:moveTo>
                <a:cubicBezTo>
                  <a:pt x="18749" y="16761"/>
                  <a:pt x="18833" y="16745"/>
                  <a:pt x="18926" y="167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77000" y="6215040"/>
            <a:ext cx="12528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8926" y="17289"/>
                </a:moveTo>
                <a:cubicBezTo>
                  <a:pt x="19043" y="17238"/>
                  <a:pt x="19151" y="17283"/>
                  <a:pt x="19124" y="17438"/>
                </a:cubicBezTo>
                <a:cubicBezTo>
                  <a:pt x="19092" y="17622"/>
                  <a:pt x="18981" y="17660"/>
                  <a:pt x="18827" y="17636"/>
                </a:cubicBezTo>
                <a:cubicBezTo>
                  <a:pt x="18827" y="17537"/>
                  <a:pt x="18889" y="17487"/>
                  <a:pt x="19000" y="17487"/>
                </a:cubicBezTo>
                <a:cubicBezTo>
                  <a:pt x="19101" y="17512"/>
                  <a:pt x="19135" y="17521"/>
                  <a:pt x="19174" y="175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46920" y="6197760"/>
            <a:ext cx="90360" cy="5364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9323" y="17214"/>
                </a:moveTo>
                <a:cubicBezTo>
                  <a:pt x="19323" y="17273"/>
                  <a:pt x="19320" y="17299"/>
                  <a:pt x="19298" y="17338"/>
                </a:cubicBezTo>
                <a:cubicBezTo>
                  <a:pt x="19415" y="17356"/>
                  <a:pt x="19439" y="17346"/>
                  <a:pt x="19546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73920" y="6134040"/>
            <a:ext cx="2700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19397" y="17041"/>
                </a:moveTo>
                <a:cubicBezTo>
                  <a:pt x="19378" y="17204"/>
                  <a:pt x="19394" y="17353"/>
                  <a:pt x="19447" y="175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34080" y="6054840"/>
            <a:ext cx="563760" cy="357120"/>
          </a:xfrm>
          <a:custGeom>
            <a:avLst/>
            <a:gdLst/>
            <a:ahLst/>
            <a:rect l="l" t="t" r="r" b="b"/>
            <a:pathLst>
              <a:path w="1564" h="993">
                <a:moveTo>
                  <a:pt x="18802" y="17760"/>
                </a:moveTo>
                <a:cubicBezTo>
                  <a:pt x="19056" y="17798"/>
                  <a:pt x="19281" y="17761"/>
                  <a:pt x="19521" y="17661"/>
                </a:cubicBezTo>
                <a:cubicBezTo>
                  <a:pt x="19713" y="17581"/>
                  <a:pt x="19893" y="17520"/>
                  <a:pt x="19968" y="17314"/>
                </a:cubicBezTo>
                <a:cubicBezTo>
                  <a:pt x="20030" y="17144"/>
                  <a:pt x="20004" y="16987"/>
                  <a:pt x="19844" y="16892"/>
                </a:cubicBezTo>
                <a:cubicBezTo>
                  <a:pt x="19659" y="16782"/>
                  <a:pt x="19425" y="16813"/>
                  <a:pt x="19224" y="16842"/>
                </a:cubicBezTo>
                <a:cubicBezTo>
                  <a:pt x="19043" y="16868"/>
                  <a:pt x="18910" y="16941"/>
                  <a:pt x="18752" y="17016"/>
                </a:cubicBezTo>
                <a:cubicBezTo>
                  <a:pt x="18653" y="17063"/>
                  <a:pt x="18514" y="17108"/>
                  <a:pt x="18455" y="17214"/>
                </a:cubicBezTo>
                <a:cubicBezTo>
                  <a:pt x="18390" y="17329"/>
                  <a:pt x="18424" y="17563"/>
                  <a:pt x="18504" y="17661"/>
                </a:cubicBezTo>
                <a:cubicBezTo>
                  <a:pt x="18614" y="17794"/>
                  <a:pt x="18867" y="17834"/>
                  <a:pt x="19025" y="17810"/>
                </a:cubicBezTo>
                <a:cubicBezTo>
                  <a:pt x="19147" y="17792"/>
                  <a:pt x="19242" y="17739"/>
                  <a:pt x="19348" y="176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Challenge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bcc4"/>
                </a:solidFill>
                <a:latin typeface="Arial"/>
              </a:rPr>
              <a:t>Place parentheses in the following problems to make each statement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3 x 3 + 9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9 = 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12 + 4 x 4 =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+ 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 – 1 = 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x 9 – 4 + 3 = 1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– 2 + 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 + (15 – 1) 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7 – 4) x 3 +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 – 6 – 12 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57200" y="2054160"/>
            <a:ext cx="2428920" cy="633600"/>
          </a:xfrm>
          <a:custGeom>
            <a:avLst/>
            <a:gdLst/>
            <a:ahLst/>
            <a:rect l="l" t="t" r="r" b="b"/>
            <a:pathLst>
              <a:path w="6748" h="1762">
                <a:moveTo>
                  <a:pt x="7441" y="5779"/>
                </a:moveTo>
                <a:cubicBezTo>
                  <a:pt x="7436" y="5801"/>
                  <a:pt x="7392" y="5903"/>
                  <a:pt x="7417" y="5928"/>
                </a:cubicBezTo>
                <a:cubicBezTo>
                  <a:pt x="7510" y="6021"/>
                  <a:pt x="7736" y="5911"/>
                  <a:pt x="7838" y="5904"/>
                </a:cubicBezTo>
                <a:cubicBezTo>
                  <a:pt x="8031" y="5890"/>
                  <a:pt x="8219" y="5915"/>
                  <a:pt x="8409" y="5928"/>
                </a:cubicBezTo>
                <a:cubicBezTo>
                  <a:pt x="8561" y="5939"/>
                  <a:pt x="8707" y="5936"/>
                  <a:pt x="8855" y="5953"/>
                </a:cubicBezTo>
                <a:cubicBezTo>
                  <a:pt x="8880" y="5953"/>
                  <a:pt x="8905" y="5953"/>
                  <a:pt x="8930" y="5953"/>
                </a:cubicBezTo>
                <a:cubicBezTo>
                  <a:pt x="8880" y="5954"/>
                  <a:pt x="8905" y="5797"/>
                  <a:pt x="8905" y="5705"/>
                </a:cubicBezTo>
              </a:path>
              <a:path w="6748" h="1762">
                <a:moveTo>
                  <a:pt x="7888" y="6176"/>
                </a:moveTo>
                <a:cubicBezTo>
                  <a:pt x="7993" y="6161"/>
                  <a:pt x="8276" y="6083"/>
                  <a:pt x="8310" y="6251"/>
                </a:cubicBezTo>
                <a:cubicBezTo>
                  <a:pt x="8335" y="6377"/>
                  <a:pt x="8010" y="6525"/>
                  <a:pt x="8062" y="6424"/>
                </a:cubicBezTo>
                <a:cubicBezTo>
                  <a:pt x="8228" y="6408"/>
                  <a:pt x="8242" y="6392"/>
                  <a:pt x="8359" y="6499"/>
                </a:cubicBezTo>
                <a:cubicBezTo>
                  <a:pt x="8224" y="6723"/>
                  <a:pt x="8093" y="6665"/>
                  <a:pt x="7838" y="6623"/>
                </a:cubicBezTo>
              </a:path>
              <a:path w="6748" h="1762">
                <a:moveTo>
                  <a:pt x="3870" y="6077"/>
                </a:moveTo>
                <a:cubicBezTo>
                  <a:pt x="3804" y="6184"/>
                  <a:pt x="3696" y="6345"/>
                  <a:pt x="3919" y="6350"/>
                </a:cubicBezTo>
                <a:cubicBezTo>
                  <a:pt x="3969" y="6342"/>
                  <a:pt x="4018" y="6333"/>
                  <a:pt x="4068" y="6325"/>
                </a:cubicBezTo>
              </a:path>
              <a:path w="6748" h="1762">
                <a:moveTo>
                  <a:pt x="4167" y="6052"/>
                </a:moveTo>
                <a:cubicBezTo>
                  <a:pt x="4152" y="6235"/>
                  <a:pt x="4142" y="6413"/>
                  <a:pt x="4142" y="6598"/>
                </a:cubicBezTo>
                <a:cubicBezTo>
                  <a:pt x="4142" y="6615"/>
                  <a:pt x="4142" y="6631"/>
                  <a:pt x="4142" y="6648"/>
                </a:cubicBezTo>
              </a:path>
              <a:path w="6748" h="1762">
                <a:moveTo>
                  <a:pt x="4614" y="6400"/>
                </a:moveTo>
                <a:cubicBezTo>
                  <a:pt x="4706" y="6400"/>
                  <a:pt x="4732" y="6402"/>
                  <a:pt x="4787" y="6375"/>
                </a:cubicBezTo>
              </a:path>
              <a:path w="6748" h="1762">
                <a:moveTo>
                  <a:pt x="5432" y="6127"/>
                </a:moveTo>
                <a:cubicBezTo>
                  <a:pt x="5600" y="6142"/>
                  <a:pt x="5678" y="6192"/>
                  <a:pt x="5804" y="6300"/>
                </a:cubicBezTo>
                <a:cubicBezTo>
                  <a:pt x="5727" y="6509"/>
                  <a:pt x="5612" y="6627"/>
                  <a:pt x="5358" y="6548"/>
                </a:cubicBezTo>
                <a:cubicBezTo>
                  <a:pt x="5341" y="6532"/>
                  <a:pt x="5325" y="6515"/>
                  <a:pt x="5308" y="6499"/>
                </a:cubicBezTo>
                <a:cubicBezTo>
                  <a:pt x="5444" y="6402"/>
                  <a:pt x="5566" y="6351"/>
                  <a:pt x="5730" y="6449"/>
                </a:cubicBezTo>
                <a:cubicBezTo>
                  <a:pt x="5746" y="6466"/>
                  <a:pt x="5763" y="6482"/>
                  <a:pt x="5779" y="6499"/>
                </a:cubicBezTo>
              </a:path>
              <a:path w="6748" h="1762">
                <a:moveTo>
                  <a:pt x="6598" y="6201"/>
                </a:moveTo>
                <a:cubicBezTo>
                  <a:pt x="6606" y="6276"/>
                  <a:pt x="6617" y="6348"/>
                  <a:pt x="6623" y="6424"/>
                </a:cubicBezTo>
              </a:path>
              <a:path w="6748" h="1762">
                <a:moveTo>
                  <a:pt x="6449" y="6375"/>
                </a:moveTo>
                <a:cubicBezTo>
                  <a:pt x="6574" y="6356"/>
                  <a:pt x="6696" y="6334"/>
                  <a:pt x="6821" y="6325"/>
                </a:cubicBezTo>
              </a:path>
              <a:path w="6748" h="1762">
                <a:moveTo>
                  <a:pt x="4341" y="6672"/>
                </a:moveTo>
                <a:cubicBezTo>
                  <a:pt x="4341" y="6833"/>
                  <a:pt x="4444" y="6816"/>
                  <a:pt x="4589" y="6821"/>
                </a:cubicBezTo>
                <a:cubicBezTo>
                  <a:pt x="4799" y="6829"/>
                  <a:pt x="5003" y="6824"/>
                  <a:pt x="5209" y="6846"/>
                </a:cubicBezTo>
                <a:cubicBezTo>
                  <a:pt x="5278" y="6853"/>
                  <a:pt x="5340" y="6867"/>
                  <a:pt x="5407" y="6871"/>
                </a:cubicBezTo>
                <a:cubicBezTo>
                  <a:pt x="5503" y="6876"/>
                  <a:pt x="5476" y="6792"/>
                  <a:pt x="5482" y="6722"/>
                </a:cubicBezTo>
              </a:path>
              <a:path w="6748" h="1762">
                <a:moveTo>
                  <a:pt x="4936" y="7094"/>
                </a:moveTo>
                <a:cubicBezTo>
                  <a:pt x="5008" y="7046"/>
                  <a:pt x="5076" y="7022"/>
                  <a:pt x="5159" y="7069"/>
                </a:cubicBezTo>
                <a:cubicBezTo>
                  <a:pt x="5167" y="7077"/>
                  <a:pt x="5176" y="7086"/>
                  <a:pt x="5184" y="7094"/>
                </a:cubicBezTo>
                <a:cubicBezTo>
                  <a:pt x="5156" y="7209"/>
                  <a:pt x="5056" y="7241"/>
                  <a:pt x="4961" y="7317"/>
                </a:cubicBezTo>
                <a:cubicBezTo>
                  <a:pt x="4953" y="7325"/>
                  <a:pt x="4944" y="7334"/>
                  <a:pt x="4936" y="7342"/>
                </a:cubicBezTo>
                <a:cubicBezTo>
                  <a:pt x="5076" y="7308"/>
                  <a:pt x="5185" y="7293"/>
                  <a:pt x="5333" y="7293"/>
                </a:cubicBezTo>
                <a:cubicBezTo>
                  <a:pt x="5401" y="7293"/>
                  <a:pt x="5420" y="7290"/>
                  <a:pt x="5457" y="7317"/>
                </a:cubicBezTo>
              </a:path>
              <a:path w="6748" h="1762">
                <a:moveTo>
                  <a:pt x="6176" y="6945"/>
                </a:moveTo>
                <a:cubicBezTo>
                  <a:pt x="6224" y="7023"/>
                  <a:pt x="6258" y="7081"/>
                  <a:pt x="6276" y="7169"/>
                </a:cubicBezTo>
              </a:path>
              <a:path w="6748" h="1762">
                <a:moveTo>
                  <a:pt x="6127" y="7094"/>
                </a:moveTo>
                <a:cubicBezTo>
                  <a:pt x="6269" y="7076"/>
                  <a:pt x="6407" y="7065"/>
                  <a:pt x="6548" y="7045"/>
                </a:cubicBezTo>
              </a:path>
              <a:path w="6748" h="1762">
                <a:moveTo>
                  <a:pt x="6871" y="6945"/>
                </a:moveTo>
                <a:cubicBezTo>
                  <a:pt x="6929" y="6932"/>
                  <a:pt x="7151" y="6871"/>
                  <a:pt x="7144" y="6995"/>
                </a:cubicBezTo>
                <a:cubicBezTo>
                  <a:pt x="7138" y="7116"/>
                  <a:pt x="7008" y="7117"/>
                  <a:pt x="6921" y="7144"/>
                </a:cubicBezTo>
                <a:cubicBezTo>
                  <a:pt x="7069" y="7124"/>
                  <a:pt x="7083" y="7122"/>
                  <a:pt x="7169" y="7243"/>
                </a:cubicBezTo>
                <a:cubicBezTo>
                  <a:pt x="7089" y="7336"/>
                  <a:pt x="7017" y="7336"/>
                  <a:pt x="6896" y="7317"/>
                </a:cubicBezTo>
              </a:path>
              <a:path w="6748" h="1762">
                <a:moveTo>
                  <a:pt x="8235" y="7020"/>
                </a:moveTo>
                <a:cubicBezTo>
                  <a:pt x="8353" y="7020"/>
                  <a:pt x="8465" y="7002"/>
                  <a:pt x="8582" y="6995"/>
                </a:cubicBezTo>
              </a:path>
              <a:path w="6748" h="1762">
                <a:moveTo>
                  <a:pt x="8235" y="7169"/>
                </a:moveTo>
                <a:cubicBezTo>
                  <a:pt x="8356" y="7164"/>
                  <a:pt x="8441" y="7159"/>
                  <a:pt x="8558" y="7144"/>
                </a:cubicBezTo>
              </a:path>
              <a:path w="6748" h="1762">
                <a:moveTo>
                  <a:pt x="9674" y="6772"/>
                </a:moveTo>
                <a:cubicBezTo>
                  <a:pt x="9533" y="6741"/>
                  <a:pt x="9510" y="6759"/>
                  <a:pt x="9451" y="6896"/>
                </a:cubicBezTo>
                <a:cubicBezTo>
                  <a:pt x="9443" y="6921"/>
                  <a:pt x="9434" y="6945"/>
                  <a:pt x="9426" y="6970"/>
                </a:cubicBezTo>
                <a:cubicBezTo>
                  <a:pt x="9552" y="7065"/>
                  <a:pt x="9736" y="6973"/>
                  <a:pt x="9897" y="7045"/>
                </a:cubicBezTo>
                <a:cubicBezTo>
                  <a:pt x="10171" y="7168"/>
                  <a:pt x="9667" y="7220"/>
                  <a:pt x="9624" y="7218"/>
                </a:cubicBezTo>
              </a:path>
              <a:path w="6748" h="1762">
                <a:moveTo>
                  <a:pt x="9203" y="7441"/>
                </a:moveTo>
                <a:cubicBezTo>
                  <a:pt x="9530" y="7471"/>
                  <a:pt x="9874" y="7508"/>
                  <a:pt x="10195" y="7417"/>
                </a:cubicBezTo>
                <a:cubicBezTo>
                  <a:pt x="10485" y="7335"/>
                  <a:pt x="10606" y="7049"/>
                  <a:pt x="10468" y="6772"/>
                </a:cubicBezTo>
                <a:cubicBezTo>
                  <a:pt x="10334" y="6504"/>
                  <a:pt x="9961" y="6205"/>
                  <a:pt x="9649" y="6201"/>
                </a:cubicBezTo>
                <a:cubicBezTo>
                  <a:pt x="9344" y="6197"/>
                  <a:pt x="9001" y="6501"/>
                  <a:pt x="8905" y="6772"/>
                </a:cubicBezTo>
                <a:cubicBezTo>
                  <a:pt x="8752" y="7204"/>
                  <a:pt x="9204" y="7285"/>
                  <a:pt x="9500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04960" y="339408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4887" y="9426"/>
                </a:moveTo>
                <a:cubicBezTo>
                  <a:pt x="4765" y="9480"/>
                  <a:pt x="4675" y="9670"/>
                  <a:pt x="4738" y="9823"/>
                </a:cubicBezTo>
                <a:cubicBezTo>
                  <a:pt x="4827" y="10040"/>
                  <a:pt x="5093" y="9738"/>
                  <a:pt x="5110" y="9624"/>
                </a:cubicBezTo>
                <a:cubicBezTo>
                  <a:pt x="5130" y="9490"/>
                  <a:pt x="5005" y="9461"/>
                  <a:pt x="4911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71800" y="3402000"/>
            <a:ext cx="135000" cy="9036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5953" y="9451"/>
                </a:moveTo>
                <a:cubicBezTo>
                  <a:pt x="5944" y="9538"/>
                  <a:pt x="5914" y="9615"/>
                  <a:pt x="5904" y="9699"/>
                </a:cubicBezTo>
              </a:path>
              <a:path w="373" h="249">
                <a:moveTo>
                  <a:pt x="5755" y="9599"/>
                </a:moveTo>
                <a:cubicBezTo>
                  <a:pt x="5890" y="9587"/>
                  <a:pt x="6000" y="9545"/>
                  <a:pt x="6127" y="95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2920" y="3268800"/>
            <a:ext cx="223920" cy="19656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6921" y="9178"/>
                </a:moveTo>
                <a:cubicBezTo>
                  <a:pt x="6938" y="9333"/>
                  <a:pt x="6909" y="9467"/>
                  <a:pt x="6896" y="9624"/>
                </a:cubicBezTo>
              </a:path>
              <a:path w="621" h="546">
                <a:moveTo>
                  <a:pt x="7144" y="9252"/>
                </a:moveTo>
                <a:cubicBezTo>
                  <a:pt x="7168" y="9300"/>
                  <a:pt x="7176" y="9314"/>
                  <a:pt x="7169" y="9351"/>
                </a:cubicBezTo>
                <a:cubicBezTo>
                  <a:pt x="7288" y="9351"/>
                  <a:pt x="7398" y="9334"/>
                  <a:pt x="7516" y="9327"/>
                </a:cubicBezTo>
              </a:path>
              <a:path w="621" h="546">
                <a:moveTo>
                  <a:pt x="7441" y="9079"/>
                </a:moveTo>
                <a:cubicBezTo>
                  <a:pt x="7417" y="9251"/>
                  <a:pt x="7379" y="9427"/>
                  <a:pt x="7342" y="95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60720" y="3321000"/>
            <a:ext cx="1098360" cy="554040"/>
          </a:xfrm>
          <a:custGeom>
            <a:avLst/>
            <a:gdLst/>
            <a:ahLst/>
            <a:rect l="l" t="t" r="r" b="b"/>
            <a:pathLst>
              <a:path w="3052" h="1539">
                <a:moveTo>
                  <a:pt x="8037" y="9475"/>
                </a:moveTo>
                <a:cubicBezTo>
                  <a:pt x="8169" y="9499"/>
                  <a:pt x="8281" y="9513"/>
                  <a:pt x="8409" y="9475"/>
                </a:cubicBezTo>
              </a:path>
              <a:path w="3052" h="1539">
                <a:moveTo>
                  <a:pt x="8235" y="9277"/>
                </a:moveTo>
                <a:lnTo>
                  <a:pt x="8235" y="9277"/>
                </a:lnTo>
              </a:path>
              <a:path w="3052" h="1539">
                <a:moveTo>
                  <a:pt x="8210" y="9847"/>
                </a:moveTo>
                <a:lnTo>
                  <a:pt x="8210" y="9847"/>
                </a:lnTo>
              </a:path>
              <a:path w="3052" h="1539">
                <a:moveTo>
                  <a:pt x="8731" y="9277"/>
                </a:moveTo>
                <a:cubicBezTo>
                  <a:pt x="8835" y="9242"/>
                  <a:pt x="8978" y="9180"/>
                  <a:pt x="8930" y="9351"/>
                </a:cubicBezTo>
                <a:cubicBezTo>
                  <a:pt x="8892" y="9489"/>
                  <a:pt x="8806" y="9534"/>
                  <a:pt x="8706" y="9624"/>
                </a:cubicBezTo>
                <a:cubicBezTo>
                  <a:pt x="8824" y="9644"/>
                  <a:pt x="8930" y="9615"/>
                  <a:pt x="9054" y="9599"/>
                </a:cubicBezTo>
              </a:path>
              <a:path w="3052" h="1539">
                <a:moveTo>
                  <a:pt x="7342" y="9872"/>
                </a:moveTo>
                <a:cubicBezTo>
                  <a:pt x="7342" y="9930"/>
                  <a:pt x="7342" y="9955"/>
                  <a:pt x="7342" y="9996"/>
                </a:cubicBezTo>
                <a:cubicBezTo>
                  <a:pt x="7531" y="9982"/>
                  <a:pt x="7722" y="9954"/>
                  <a:pt x="7913" y="9947"/>
                </a:cubicBezTo>
                <a:cubicBezTo>
                  <a:pt x="8076" y="9941"/>
                  <a:pt x="8224" y="9971"/>
                  <a:pt x="8384" y="9971"/>
                </a:cubicBezTo>
                <a:cubicBezTo>
                  <a:pt x="8538" y="9971"/>
                  <a:pt x="8725" y="9875"/>
                  <a:pt x="8855" y="9798"/>
                </a:cubicBezTo>
                <a:cubicBezTo>
                  <a:pt x="8863" y="9790"/>
                  <a:pt x="8872" y="9781"/>
                  <a:pt x="8880" y="9773"/>
                </a:cubicBezTo>
              </a:path>
              <a:path w="3052" h="1539">
                <a:moveTo>
                  <a:pt x="7888" y="10468"/>
                </a:moveTo>
                <a:cubicBezTo>
                  <a:pt x="7851" y="10357"/>
                  <a:pt x="7904" y="10277"/>
                  <a:pt x="8012" y="10220"/>
                </a:cubicBezTo>
                <a:cubicBezTo>
                  <a:pt x="8119" y="10164"/>
                  <a:pt x="8218" y="10153"/>
                  <a:pt x="8334" y="10145"/>
                </a:cubicBezTo>
                <a:cubicBezTo>
                  <a:pt x="8302" y="10340"/>
                  <a:pt x="8208" y="10495"/>
                  <a:pt x="8111" y="10666"/>
                </a:cubicBezTo>
              </a:path>
              <a:path w="3052" h="1539">
                <a:moveTo>
                  <a:pt x="6350" y="10319"/>
                </a:moveTo>
                <a:cubicBezTo>
                  <a:pt x="6250" y="10319"/>
                  <a:pt x="6195" y="10297"/>
                  <a:pt x="6127" y="10393"/>
                </a:cubicBezTo>
                <a:cubicBezTo>
                  <a:pt x="6036" y="10553"/>
                  <a:pt x="6006" y="10595"/>
                  <a:pt x="6003" y="10716"/>
                </a:cubicBezTo>
                <a:cubicBezTo>
                  <a:pt x="6173" y="10733"/>
                  <a:pt x="6475" y="10643"/>
                  <a:pt x="6400" y="10368"/>
                </a:cubicBezTo>
                <a:cubicBezTo>
                  <a:pt x="6327" y="10295"/>
                  <a:pt x="6304" y="10271"/>
                  <a:pt x="6226" y="10294"/>
                </a:cubicBezTo>
              </a:path>
              <a:path w="3052" h="1539">
                <a:moveTo>
                  <a:pt x="6945" y="10368"/>
                </a:moveTo>
                <a:cubicBezTo>
                  <a:pt x="6945" y="10484"/>
                  <a:pt x="6945" y="10600"/>
                  <a:pt x="6945" y="10716"/>
                </a:cubicBezTo>
              </a:path>
              <a:path w="3052" h="1539">
                <a:moveTo>
                  <a:pt x="6772" y="10542"/>
                </a:moveTo>
                <a:cubicBezTo>
                  <a:pt x="6905" y="10512"/>
                  <a:pt x="7037" y="10478"/>
                  <a:pt x="7169" y="104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14800" y="3490920"/>
            <a:ext cx="982440" cy="546120"/>
          </a:xfrm>
          <a:custGeom>
            <a:avLst/>
            <a:gdLst/>
            <a:ahLst/>
            <a:rect l="l" t="t" r="r" b="b"/>
            <a:pathLst>
              <a:path w="2729" h="1514">
                <a:moveTo>
                  <a:pt x="8930" y="10443"/>
                </a:moveTo>
                <a:cubicBezTo>
                  <a:pt x="9080" y="10453"/>
                  <a:pt x="9225" y="10468"/>
                  <a:pt x="9376" y="10468"/>
                </a:cubicBezTo>
              </a:path>
              <a:path w="2729" h="1514">
                <a:moveTo>
                  <a:pt x="9103" y="10666"/>
                </a:moveTo>
                <a:cubicBezTo>
                  <a:pt x="9144" y="10658"/>
                  <a:pt x="9186" y="10649"/>
                  <a:pt x="9227" y="10641"/>
                </a:cubicBezTo>
              </a:path>
              <a:path w="2729" h="1514">
                <a:moveTo>
                  <a:pt x="10344" y="10220"/>
                </a:moveTo>
                <a:cubicBezTo>
                  <a:pt x="10367" y="10268"/>
                  <a:pt x="10375" y="10282"/>
                  <a:pt x="10368" y="10319"/>
                </a:cubicBezTo>
                <a:cubicBezTo>
                  <a:pt x="10383" y="10094"/>
                  <a:pt x="10484" y="10116"/>
                  <a:pt x="10691" y="10046"/>
                </a:cubicBezTo>
                <a:cubicBezTo>
                  <a:pt x="10716" y="10038"/>
                  <a:pt x="10740" y="10029"/>
                  <a:pt x="10765" y="10021"/>
                </a:cubicBezTo>
                <a:cubicBezTo>
                  <a:pt x="10779" y="10230"/>
                  <a:pt x="10702" y="10455"/>
                  <a:pt x="10641" y="10666"/>
                </a:cubicBezTo>
              </a:path>
              <a:path w="2729" h="1514">
                <a:moveTo>
                  <a:pt x="9773" y="10790"/>
                </a:moveTo>
                <a:cubicBezTo>
                  <a:pt x="9838" y="11016"/>
                  <a:pt x="10028" y="11138"/>
                  <a:pt x="10269" y="11187"/>
                </a:cubicBezTo>
                <a:cubicBezTo>
                  <a:pt x="10652" y="11265"/>
                  <a:pt x="11141" y="11138"/>
                  <a:pt x="11410" y="10840"/>
                </a:cubicBezTo>
                <a:cubicBezTo>
                  <a:pt x="11672" y="10550"/>
                  <a:pt x="11747" y="10204"/>
                  <a:pt x="11460" y="9922"/>
                </a:cubicBezTo>
                <a:cubicBezTo>
                  <a:pt x="11188" y="9655"/>
                  <a:pt x="10740" y="9671"/>
                  <a:pt x="10393" y="9748"/>
                </a:cubicBezTo>
                <a:cubicBezTo>
                  <a:pt x="9966" y="9842"/>
                  <a:pt x="9736" y="10158"/>
                  <a:pt x="9723" y="10592"/>
                </a:cubicBezTo>
                <a:cubicBezTo>
                  <a:pt x="9772" y="10838"/>
                  <a:pt x="9787" y="10918"/>
                  <a:pt x="9947" y="1101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3120" y="4384800"/>
            <a:ext cx="1706760" cy="330120"/>
          </a:xfrm>
          <a:custGeom>
            <a:avLst/>
            <a:gdLst/>
            <a:ahLst/>
            <a:rect l="l" t="t" r="r" b="b"/>
            <a:pathLst>
              <a:path w="4738" h="919">
                <a:moveTo>
                  <a:pt x="4093" y="12229"/>
                </a:moveTo>
                <a:cubicBezTo>
                  <a:pt x="4130" y="12321"/>
                  <a:pt x="4160" y="12389"/>
                  <a:pt x="4118" y="12477"/>
                </a:cubicBezTo>
                <a:cubicBezTo>
                  <a:pt x="4440" y="12447"/>
                  <a:pt x="4762" y="12435"/>
                  <a:pt x="5085" y="12477"/>
                </a:cubicBezTo>
                <a:cubicBezTo>
                  <a:pt x="5263" y="12500"/>
                  <a:pt x="5428" y="12540"/>
                  <a:pt x="5606" y="12551"/>
                </a:cubicBezTo>
                <a:cubicBezTo>
                  <a:pt x="5621" y="12423"/>
                  <a:pt x="5631" y="12309"/>
                  <a:pt x="5631" y="12179"/>
                </a:cubicBezTo>
              </a:path>
              <a:path w="4738" h="919">
                <a:moveTo>
                  <a:pt x="4787" y="12576"/>
                </a:moveTo>
                <a:cubicBezTo>
                  <a:pt x="4886" y="12569"/>
                  <a:pt x="4965" y="12562"/>
                  <a:pt x="5060" y="12576"/>
                </a:cubicBezTo>
                <a:cubicBezTo>
                  <a:pt x="5093" y="12691"/>
                  <a:pt x="5031" y="12750"/>
                  <a:pt x="4936" y="12824"/>
                </a:cubicBezTo>
                <a:cubicBezTo>
                  <a:pt x="4990" y="12824"/>
                  <a:pt x="5247" y="12805"/>
                  <a:pt x="5159" y="12948"/>
                </a:cubicBezTo>
                <a:cubicBezTo>
                  <a:pt x="5098" y="13047"/>
                  <a:pt x="4971" y="13008"/>
                  <a:pt x="4887" y="12998"/>
                </a:cubicBezTo>
              </a:path>
              <a:path w="4738" h="919">
                <a:moveTo>
                  <a:pt x="6127" y="12675"/>
                </a:moveTo>
                <a:cubicBezTo>
                  <a:pt x="6239" y="12770"/>
                  <a:pt x="6341" y="12877"/>
                  <a:pt x="6424" y="12998"/>
                </a:cubicBezTo>
              </a:path>
              <a:path w="4738" h="919">
                <a:moveTo>
                  <a:pt x="6350" y="12725"/>
                </a:moveTo>
                <a:cubicBezTo>
                  <a:pt x="6279" y="12853"/>
                  <a:pt x="6213" y="12981"/>
                  <a:pt x="6127" y="13097"/>
                </a:cubicBezTo>
              </a:path>
              <a:path w="4738" h="919">
                <a:moveTo>
                  <a:pt x="6846" y="12675"/>
                </a:moveTo>
                <a:cubicBezTo>
                  <a:pt x="6946" y="12668"/>
                  <a:pt x="7158" y="12587"/>
                  <a:pt x="7218" y="12700"/>
                </a:cubicBezTo>
                <a:cubicBezTo>
                  <a:pt x="7234" y="12730"/>
                  <a:pt x="7046" y="12789"/>
                  <a:pt x="7020" y="12799"/>
                </a:cubicBezTo>
                <a:cubicBezTo>
                  <a:pt x="7224" y="12845"/>
                  <a:pt x="7329" y="12818"/>
                  <a:pt x="7342" y="13022"/>
                </a:cubicBezTo>
                <a:cubicBezTo>
                  <a:pt x="7213" y="13044"/>
                  <a:pt x="7124" y="13044"/>
                  <a:pt x="6995" y="13022"/>
                </a:cubicBezTo>
              </a:path>
              <a:path w="4738" h="919">
                <a:moveTo>
                  <a:pt x="8111" y="12799"/>
                </a:moveTo>
                <a:cubicBezTo>
                  <a:pt x="8156" y="12872"/>
                  <a:pt x="8196" y="12945"/>
                  <a:pt x="8235" y="13022"/>
                </a:cubicBezTo>
              </a:path>
              <a:path w="4738" h="919">
                <a:moveTo>
                  <a:pt x="7987" y="12923"/>
                </a:moveTo>
                <a:cubicBezTo>
                  <a:pt x="8164" y="12916"/>
                  <a:pt x="8333" y="12899"/>
                  <a:pt x="8508" y="12874"/>
                </a:cubicBezTo>
              </a:path>
              <a:path w="4738" h="919">
                <a:moveTo>
                  <a:pt x="8756" y="12700"/>
                </a:moveTo>
                <a:cubicBezTo>
                  <a:pt x="8800" y="12821"/>
                  <a:pt x="8820" y="12942"/>
                  <a:pt x="8830" y="130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46160" y="4741920"/>
            <a:ext cx="876240" cy="384120"/>
          </a:xfrm>
          <a:custGeom>
            <a:avLst/>
            <a:gdLst/>
            <a:ahLst/>
            <a:rect l="l" t="t" r="r" b="b"/>
            <a:pathLst>
              <a:path w="2432" h="1068">
                <a:moveTo>
                  <a:pt x="5407" y="13171"/>
                </a:moveTo>
                <a:cubicBezTo>
                  <a:pt x="5436" y="13266"/>
                  <a:pt x="5425" y="13322"/>
                  <a:pt x="5407" y="13419"/>
                </a:cubicBezTo>
                <a:cubicBezTo>
                  <a:pt x="5640" y="13419"/>
                  <a:pt x="5848" y="13450"/>
                  <a:pt x="6077" y="13494"/>
                </a:cubicBezTo>
                <a:cubicBezTo>
                  <a:pt x="6270" y="13531"/>
                  <a:pt x="6459" y="13605"/>
                  <a:pt x="6648" y="13643"/>
                </a:cubicBezTo>
                <a:cubicBezTo>
                  <a:pt x="6698" y="13653"/>
                  <a:pt x="6782" y="13672"/>
                  <a:pt x="6821" y="13643"/>
                </a:cubicBezTo>
                <a:cubicBezTo>
                  <a:pt x="6925" y="13566"/>
                  <a:pt x="6908" y="13406"/>
                  <a:pt x="6921" y="13271"/>
                </a:cubicBezTo>
                <a:cubicBezTo>
                  <a:pt x="6921" y="13263"/>
                  <a:pt x="6921" y="13254"/>
                  <a:pt x="6921" y="13246"/>
                </a:cubicBezTo>
              </a:path>
              <a:path w="2432" h="1068">
                <a:moveTo>
                  <a:pt x="6449" y="13841"/>
                </a:moveTo>
                <a:cubicBezTo>
                  <a:pt x="6556" y="13780"/>
                  <a:pt x="6526" y="13732"/>
                  <a:pt x="6499" y="13618"/>
                </a:cubicBezTo>
                <a:cubicBezTo>
                  <a:pt x="6317" y="13592"/>
                  <a:pt x="6111" y="13668"/>
                  <a:pt x="6077" y="13891"/>
                </a:cubicBezTo>
                <a:cubicBezTo>
                  <a:pt x="6094" y="13907"/>
                  <a:pt x="6110" y="13924"/>
                  <a:pt x="6127" y="13940"/>
                </a:cubicBezTo>
                <a:cubicBezTo>
                  <a:pt x="6285" y="13916"/>
                  <a:pt x="6325" y="13898"/>
                  <a:pt x="6449" y="13791"/>
                </a:cubicBezTo>
                <a:cubicBezTo>
                  <a:pt x="6540" y="13952"/>
                  <a:pt x="6537" y="14050"/>
                  <a:pt x="6474" y="14238"/>
                </a:cubicBezTo>
              </a:path>
              <a:path w="2432" h="1068">
                <a:moveTo>
                  <a:pt x="7243" y="13891"/>
                </a:moveTo>
                <a:cubicBezTo>
                  <a:pt x="7259" y="13981"/>
                  <a:pt x="7268" y="14045"/>
                  <a:pt x="7268" y="14139"/>
                </a:cubicBezTo>
              </a:path>
              <a:path w="2432" h="1068">
                <a:moveTo>
                  <a:pt x="7094" y="13990"/>
                </a:moveTo>
                <a:cubicBezTo>
                  <a:pt x="7276" y="14016"/>
                  <a:pt x="7342" y="14023"/>
                  <a:pt x="7466" y="13990"/>
                </a:cubicBezTo>
              </a:path>
              <a:path w="2432" h="1068">
                <a:moveTo>
                  <a:pt x="7813" y="13717"/>
                </a:moveTo>
                <a:cubicBezTo>
                  <a:pt x="7830" y="13853"/>
                  <a:pt x="7838" y="13977"/>
                  <a:pt x="7838" y="141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06800" y="4983120"/>
            <a:ext cx="125280" cy="54000"/>
          </a:xfrm>
          <a:custGeom>
            <a:avLst/>
            <a:gdLst/>
            <a:ahLst/>
            <a:rect l="l" t="t" r="r" b="b"/>
            <a:pathLst>
              <a:path w="348" h="150">
                <a:moveTo>
                  <a:pt x="8632" y="13841"/>
                </a:moveTo>
                <a:cubicBezTo>
                  <a:pt x="8706" y="13841"/>
                  <a:pt x="8781" y="13841"/>
                  <a:pt x="8855" y="13841"/>
                </a:cubicBezTo>
              </a:path>
              <a:path w="348" h="150">
                <a:moveTo>
                  <a:pt x="8632" y="13990"/>
                </a:moveTo>
                <a:cubicBezTo>
                  <a:pt x="8789" y="13990"/>
                  <a:pt x="8863" y="13990"/>
                  <a:pt x="8979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62200" y="4633920"/>
            <a:ext cx="679680" cy="492120"/>
          </a:xfrm>
          <a:custGeom>
            <a:avLst/>
            <a:gdLst/>
            <a:ahLst/>
            <a:rect l="l" t="t" r="r" b="b"/>
            <a:pathLst>
              <a:path w="1886" h="1365">
                <a:moveTo>
                  <a:pt x="10368" y="13469"/>
                </a:moveTo>
                <a:cubicBezTo>
                  <a:pt x="10394" y="13650"/>
                  <a:pt x="10402" y="13716"/>
                  <a:pt x="10393" y="13841"/>
                </a:cubicBezTo>
              </a:path>
              <a:path w="1886" h="1365">
                <a:moveTo>
                  <a:pt x="10840" y="13469"/>
                </a:moveTo>
                <a:cubicBezTo>
                  <a:pt x="10772" y="13600"/>
                  <a:pt x="10593" y="14033"/>
                  <a:pt x="10964" y="13915"/>
                </a:cubicBezTo>
                <a:cubicBezTo>
                  <a:pt x="11197" y="13841"/>
                  <a:pt x="11085" y="13660"/>
                  <a:pt x="11038" y="13519"/>
                </a:cubicBezTo>
              </a:path>
              <a:path w="1886" h="1365">
                <a:moveTo>
                  <a:pt x="10145" y="14089"/>
                </a:moveTo>
                <a:cubicBezTo>
                  <a:pt x="10439" y="14193"/>
                  <a:pt x="10768" y="14288"/>
                  <a:pt x="11088" y="14238"/>
                </a:cubicBezTo>
                <a:cubicBezTo>
                  <a:pt x="11395" y="14190"/>
                  <a:pt x="11852" y="13882"/>
                  <a:pt x="11782" y="13519"/>
                </a:cubicBezTo>
                <a:cubicBezTo>
                  <a:pt x="11672" y="12945"/>
                  <a:pt x="10965" y="12800"/>
                  <a:pt x="10492" y="12923"/>
                </a:cubicBezTo>
                <a:cubicBezTo>
                  <a:pt x="9742" y="13118"/>
                  <a:pt x="9856" y="13639"/>
                  <a:pt x="10220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4240" y="5607000"/>
            <a:ext cx="687600" cy="322200"/>
          </a:xfrm>
          <a:custGeom>
            <a:avLst/>
            <a:gdLst/>
            <a:ahLst/>
            <a:rect l="l" t="t" r="r" b="b"/>
            <a:pathLst>
              <a:path w="1911" h="894">
                <a:moveTo>
                  <a:pt x="8483" y="15602"/>
                </a:moveTo>
                <a:cubicBezTo>
                  <a:pt x="8503" y="15695"/>
                  <a:pt x="8513" y="15783"/>
                  <a:pt x="8533" y="15875"/>
                </a:cubicBezTo>
                <a:cubicBezTo>
                  <a:pt x="8809" y="15918"/>
                  <a:pt x="9134" y="15830"/>
                  <a:pt x="9426" y="15850"/>
                </a:cubicBezTo>
                <a:cubicBezTo>
                  <a:pt x="9743" y="15872"/>
                  <a:pt x="10051" y="15955"/>
                  <a:pt x="10368" y="15974"/>
                </a:cubicBezTo>
                <a:cubicBezTo>
                  <a:pt x="10346" y="15847"/>
                  <a:pt x="10384" y="15713"/>
                  <a:pt x="10393" y="15577"/>
                </a:cubicBezTo>
              </a:path>
              <a:path w="1911" h="894">
                <a:moveTo>
                  <a:pt x="9277" y="16098"/>
                </a:moveTo>
                <a:cubicBezTo>
                  <a:pt x="9323" y="16081"/>
                  <a:pt x="9683" y="15949"/>
                  <a:pt x="9550" y="16123"/>
                </a:cubicBezTo>
                <a:cubicBezTo>
                  <a:pt x="9456" y="16193"/>
                  <a:pt x="9430" y="16216"/>
                  <a:pt x="9351" y="16222"/>
                </a:cubicBezTo>
                <a:cubicBezTo>
                  <a:pt x="9413" y="16069"/>
                  <a:pt x="9509" y="16117"/>
                  <a:pt x="9624" y="16222"/>
                </a:cubicBezTo>
                <a:cubicBezTo>
                  <a:pt x="9555" y="16498"/>
                  <a:pt x="9409" y="16454"/>
                  <a:pt x="9153" y="164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12960" y="5749920"/>
            <a:ext cx="2000160" cy="627120"/>
          </a:xfrm>
          <a:custGeom>
            <a:avLst/>
            <a:gdLst/>
            <a:ahLst/>
            <a:rect l="l" t="t" r="r" b="b"/>
            <a:pathLst>
              <a:path w="5558" h="1738">
                <a:moveTo>
                  <a:pt x="5060" y="15974"/>
                </a:moveTo>
                <a:cubicBezTo>
                  <a:pt x="5078" y="16148"/>
                  <a:pt x="5068" y="16322"/>
                  <a:pt x="5035" y="16495"/>
                </a:cubicBezTo>
              </a:path>
              <a:path w="5558" h="1738">
                <a:moveTo>
                  <a:pt x="5432" y="16024"/>
                </a:moveTo>
                <a:cubicBezTo>
                  <a:pt x="5432" y="16202"/>
                  <a:pt x="5423" y="16370"/>
                  <a:pt x="5407" y="16545"/>
                </a:cubicBezTo>
              </a:path>
              <a:path w="5558" h="1738">
                <a:moveTo>
                  <a:pt x="5755" y="16272"/>
                </a:moveTo>
                <a:cubicBezTo>
                  <a:pt x="5849" y="16290"/>
                  <a:pt x="5936" y="16301"/>
                  <a:pt x="6028" y="16321"/>
                </a:cubicBezTo>
              </a:path>
              <a:path w="5558" h="1738">
                <a:moveTo>
                  <a:pt x="6747" y="15999"/>
                </a:moveTo>
                <a:cubicBezTo>
                  <a:pt x="6683" y="16134"/>
                  <a:pt x="6573" y="16338"/>
                  <a:pt x="6598" y="16495"/>
                </a:cubicBezTo>
                <a:cubicBezTo>
                  <a:pt x="6631" y="16702"/>
                  <a:pt x="6982" y="16602"/>
                  <a:pt x="7069" y="16520"/>
                </a:cubicBezTo>
                <a:cubicBezTo>
                  <a:pt x="7112" y="16413"/>
                  <a:pt x="7135" y="16389"/>
                  <a:pt x="7094" y="16321"/>
                </a:cubicBezTo>
                <a:cubicBezTo>
                  <a:pt x="6908" y="16309"/>
                  <a:pt x="6873" y="16382"/>
                  <a:pt x="6821" y="16570"/>
                </a:cubicBezTo>
                <a:cubicBezTo>
                  <a:pt x="6821" y="16578"/>
                  <a:pt x="6821" y="16586"/>
                  <a:pt x="6821" y="16594"/>
                </a:cubicBezTo>
              </a:path>
              <a:path w="5558" h="1738">
                <a:moveTo>
                  <a:pt x="7665" y="16197"/>
                </a:moveTo>
                <a:cubicBezTo>
                  <a:pt x="7756" y="16197"/>
                  <a:pt x="7847" y="16197"/>
                  <a:pt x="7938" y="16197"/>
                </a:cubicBezTo>
              </a:path>
              <a:path w="5558" h="1738">
                <a:moveTo>
                  <a:pt x="5655" y="16743"/>
                </a:moveTo>
                <a:cubicBezTo>
                  <a:pt x="5721" y="16843"/>
                  <a:pt x="5952" y="16736"/>
                  <a:pt x="6102" y="16743"/>
                </a:cubicBezTo>
                <a:cubicBezTo>
                  <a:pt x="6262" y="16750"/>
                  <a:pt x="6462" y="16876"/>
                  <a:pt x="6623" y="16818"/>
                </a:cubicBezTo>
                <a:cubicBezTo>
                  <a:pt x="6638" y="16813"/>
                  <a:pt x="6669" y="16689"/>
                  <a:pt x="6672" y="16669"/>
                </a:cubicBezTo>
              </a:path>
              <a:path w="5558" h="1738">
                <a:moveTo>
                  <a:pt x="6226" y="16991"/>
                </a:moveTo>
                <a:cubicBezTo>
                  <a:pt x="6133" y="16963"/>
                  <a:pt x="6046" y="16945"/>
                  <a:pt x="6003" y="17066"/>
                </a:cubicBezTo>
                <a:cubicBezTo>
                  <a:pt x="5981" y="17128"/>
                  <a:pt x="5978" y="17221"/>
                  <a:pt x="5978" y="17289"/>
                </a:cubicBezTo>
                <a:cubicBezTo>
                  <a:pt x="6105" y="17225"/>
                  <a:pt x="6158" y="17201"/>
                  <a:pt x="6300" y="17264"/>
                </a:cubicBezTo>
                <a:cubicBezTo>
                  <a:pt x="6364" y="17306"/>
                  <a:pt x="6389" y="17309"/>
                  <a:pt x="6375" y="17363"/>
                </a:cubicBezTo>
                <a:cubicBezTo>
                  <a:pt x="6226" y="17500"/>
                  <a:pt x="6145" y="17520"/>
                  <a:pt x="5978" y="17413"/>
                </a:cubicBezTo>
              </a:path>
              <a:path w="5558" h="1738">
                <a:moveTo>
                  <a:pt x="6896" y="17214"/>
                </a:moveTo>
                <a:cubicBezTo>
                  <a:pt x="6973" y="17234"/>
                  <a:pt x="6991" y="17226"/>
                  <a:pt x="7020" y="17264"/>
                </a:cubicBezTo>
              </a:path>
              <a:path w="5558" h="1738">
                <a:moveTo>
                  <a:pt x="7417" y="17016"/>
                </a:moveTo>
                <a:cubicBezTo>
                  <a:pt x="7580" y="17016"/>
                  <a:pt x="7701" y="17011"/>
                  <a:pt x="7838" y="17090"/>
                </a:cubicBezTo>
                <a:cubicBezTo>
                  <a:pt x="7765" y="17178"/>
                  <a:pt x="7719" y="17216"/>
                  <a:pt x="7615" y="17264"/>
                </a:cubicBezTo>
                <a:cubicBezTo>
                  <a:pt x="7701" y="17273"/>
                  <a:pt x="7889" y="17302"/>
                  <a:pt x="7789" y="17438"/>
                </a:cubicBezTo>
                <a:cubicBezTo>
                  <a:pt x="7715" y="17539"/>
                  <a:pt x="7562" y="17472"/>
                  <a:pt x="7466" y="17462"/>
                </a:cubicBezTo>
              </a:path>
              <a:path w="5558" h="1738">
                <a:moveTo>
                  <a:pt x="8384" y="17115"/>
                </a:moveTo>
                <a:cubicBezTo>
                  <a:pt x="8491" y="17115"/>
                  <a:pt x="8599" y="17115"/>
                  <a:pt x="8706" y="17115"/>
                </a:cubicBezTo>
              </a:path>
              <a:path w="5558" h="1738">
                <a:moveTo>
                  <a:pt x="8409" y="17314"/>
                </a:moveTo>
                <a:cubicBezTo>
                  <a:pt x="8467" y="17306"/>
                  <a:pt x="8524" y="17297"/>
                  <a:pt x="8582" y="17289"/>
                </a:cubicBezTo>
              </a:path>
              <a:path w="5558" h="1738">
                <a:moveTo>
                  <a:pt x="9599" y="16966"/>
                </a:moveTo>
                <a:cubicBezTo>
                  <a:pt x="9780" y="16883"/>
                  <a:pt x="10001" y="16857"/>
                  <a:pt x="9996" y="17140"/>
                </a:cubicBezTo>
                <a:cubicBezTo>
                  <a:pt x="9991" y="17384"/>
                  <a:pt x="9724" y="17382"/>
                  <a:pt x="9575" y="17338"/>
                </a:cubicBezTo>
                <a:cubicBezTo>
                  <a:pt x="9700" y="17177"/>
                  <a:pt x="9803" y="17198"/>
                  <a:pt x="9971" y="17314"/>
                </a:cubicBezTo>
                <a:cubicBezTo>
                  <a:pt x="9996" y="17339"/>
                  <a:pt x="10021" y="17363"/>
                  <a:pt x="10046" y="17388"/>
                </a:cubicBezTo>
              </a:path>
              <a:path w="5558" h="1738">
                <a:moveTo>
                  <a:pt x="9203" y="17487"/>
                </a:moveTo>
                <a:cubicBezTo>
                  <a:pt x="9550" y="17619"/>
                  <a:pt x="9825" y="17605"/>
                  <a:pt x="10195" y="17562"/>
                </a:cubicBezTo>
                <a:cubicBezTo>
                  <a:pt x="10409" y="17537"/>
                  <a:pt x="10658" y="17436"/>
                  <a:pt x="10592" y="17165"/>
                </a:cubicBezTo>
                <a:cubicBezTo>
                  <a:pt x="10489" y="16743"/>
                  <a:pt x="10037" y="16668"/>
                  <a:pt x="9674" y="16694"/>
                </a:cubicBezTo>
                <a:cubicBezTo>
                  <a:pt x="9322" y="16719"/>
                  <a:pt x="9012" y="16892"/>
                  <a:pt x="9029" y="17289"/>
                </a:cubicBezTo>
                <a:cubicBezTo>
                  <a:pt x="9107" y="17551"/>
                  <a:pt x="9144" y="17642"/>
                  <a:pt x="9351" y="177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1     PW pg. 7   2-1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2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11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08T17:49:12Z</dcterms:modified>
  <cp:revision>45</cp:revision>
  <dc:subject/>
  <dc:title>Unit 1 – Variables and Equations </dc:title>
</cp:coreProperties>
</file>